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Times New Roman"/>
              </a:rPr>
              <a:t>Click to move the slide</a:t>
            </a: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576A-57AA-4E10-B1EA-C4526CB79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CA18-F081-41EF-9FDE-844DECA0228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8898-D832-4446-A559-463EB564EB5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23EA-1565-4322-B60B-11244A7EFC9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318B-8EA2-4257-BB9C-3BABDF3B295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DB84-A2DC-4B80-A5C9-7EDFBC3011B5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F941-7F28-4351-ABF2-4919F219A1C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A432-636A-4F81-B024-BE638CA176A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26CC-94C5-4550-81C8-7A83482332F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401A-7EA8-44F6-BAFA-027D1F31571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960BF-0196-49E1-BEC0-0941696178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604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626920" y="4921200"/>
            <a:ext cx="604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03A78-4356-43BE-916A-75A11A18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62692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72616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7284C-E103-4095-B305-BED0CB19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080" y="400536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716880" y="400536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626920" y="492120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672080" y="492120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716880" y="492120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7F583-5E2B-4ADF-9ACE-624780367E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34425-2691-4C91-BE1A-6D1F3320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626920" y="4005360"/>
            <a:ext cx="60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3AC97-94A5-4055-A8B2-70A012AF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604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F7F43-3FBA-4521-827F-BC20D4A4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49306-22EC-4704-9E10-75ECE45A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DD9E2-932D-406B-B5BB-36032974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971E1-4A67-4DAB-A241-19E9A66D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2692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D67FA-4AED-464B-A7F0-800A8486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626920" y="4005360"/>
            <a:ext cx="60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62BBF-C2FA-4F09-BC4B-5641C14A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2616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C8387-988F-4D03-B440-F0B9170E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626920" y="4921200"/>
            <a:ext cx="604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E314F-3B09-4BA5-B4C3-2522CB6F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604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626920" y="4921200"/>
            <a:ext cx="604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9C6E1-FEFD-4865-B44F-1B2F76FF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62692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72616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7AA6B-E81B-4EF3-8A50-DD346F06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080" y="400536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716880" y="400536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626920" y="492120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672080" y="492120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716880" y="4921200"/>
            <a:ext cx="194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74823-6094-435C-B705-DEC90FA7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6048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B4FD1-6201-442D-A62F-698BEAF3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37F8B-EA6A-447F-B7C8-A8217517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8F2CE-474F-4468-B429-194D4C4D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8888B-7BD1-469A-A447-FD6DBBD3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2692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37037-3087-4214-9566-3654CEA7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26160" y="492120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8D8E6-2E6E-4C61-B51C-1F5FEAC2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2692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26160" y="4005360"/>
            <a:ext cx="295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26920" y="4921200"/>
            <a:ext cx="6048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1D320-4BCA-401D-B7D5-C6B46571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" Target="slide9.xml"/><Relationship Id="rId7" Type="http://schemas.openxmlformats.org/officeDocument/2006/relationships/image" Target="../media/image5.png"/><Relationship Id="rId8" Type="http://schemas.openxmlformats.org/officeDocument/2006/relationships/slide" Target="slide4.xml"/><Relationship Id="rId9" Type="http://schemas.openxmlformats.org/officeDocument/2006/relationships/image" Target="../media/image6.png"/><Relationship Id="rId10" Type="http://schemas.openxmlformats.org/officeDocument/2006/relationships/slide" Target="slide3.xml"/><Relationship Id="rId11" Type="http://schemas.openxmlformats.org/officeDocument/2006/relationships/image" Target="../media/image7.png"/><Relationship Id="rId12" Type="http://schemas.openxmlformats.org/officeDocument/2006/relationships/slide" Target="slide5.xml"/><Relationship Id="rId13" Type="http://schemas.openxmlformats.org/officeDocument/2006/relationships/image" Target="../media/image8.png"/><Relationship Id="rId14" Type="http://schemas.openxmlformats.org/officeDocument/2006/relationships/slide" Target="slide6.xml"/><Relationship Id="rId15" Type="http://schemas.openxmlformats.org/officeDocument/2006/relationships/image" Target="../media/image9.png"/><Relationship Id="rId16" Type="http://schemas.openxmlformats.org/officeDocument/2006/relationships/slide" Target="slide7.xml"/><Relationship Id="rId17" Type="http://schemas.openxmlformats.org/officeDocument/2006/relationships/image" Target="../media/image10.png"/><Relationship Id="rId18" Type="http://schemas.openxmlformats.org/officeDocument/2006/relationships/slide" Target="slide8.xml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1.xml"/><Relationship Id="rId21" Type="http://schemas.openxmlformats.org/officeDocument/2006/relationships/slideLayout" Target="../slideLayouts/slideLayout2.xml"/><Relationship Id="rId22" Type="http://schemas.openxmlformats.org/officeDocument/2006/relationships/slideLayout" Target="../slideLayouts/slideLayout3.xml"/><Relationship Id="rId23" Type="http://schemas.openxmlformats.org/officeDocument/2006/relationships/slideLayout" Target="../slideLayouts/slideLayout4.xml"/><Relationship Id="rId24" Type="http://schemas.openxmlformats.org/officeDocument/2006/relationships/slideLayout" Target="../slideLayouts/slideLayout5.xml"/><Relationship Id="rId25" Type="http://schemas.openxmlformats.org/officeDocument/2006/relationships/slideLayout" Target="../slideLayouts/slideLayout6.xml"/><Relationship Id="rId26" Type="http://schemas.openxmlformats.org/officeDocument/2006/relationships/slideLayout" Target="../slideLayouts/slideLayout7.xml"/><Relationship Id="rId27" Type="http://schemas.openxmlformats.org/officeDocument/2006/relationships/slideLayout" Target="../slideLayouts/slideLayout8.xml"/><Relationship Id="rId28" Type="http://schemas.openxmlformats.org/officeDocument/2006/relationships/slideLayout" Target="../slideLayouts/slideLayout9.xml"/><Relationship Id="rId29" Type="http://schemas.openxmlformats.org/officeDocument/2006/relationships/slideLayout" Target="../slideLayouts/slideLayout10.xml"/><Relationship Id="rId30" Type="http://schemas.openxmlformats.org/officeDocument/2006/relationships/slideLayout" Target="../slideLayouts/slideLayout11.xml"/><Relationship Id="rId3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rcRect l="2880" t="0" r="0" b="0"/>
          <a:stretch/>
        </p:blipFill>
        <p:spPr>
          <a:xfrm>
            <a:off x="0" y="6265800"/>
            <a:ext cx="6048360" cy="61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404640"/>
            <a:ext cx="9144000" cy="360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7" descr=""/>
          <p:cNvPicPr/>
          <p:nvPr/>
        </p:nvPicPr>
        <p:blipFill>
          <a:blip r:embed="rId4"/>
          <a:srcRect l="81426" t="13187" r="1190" b="12000"/>
          <a:stretch/>
        </p:blipFill>
        <p:spPr>
          <a:xfrm>
            <a:off x="7885080" y="6264360"/>
            <a:ext cx="1268280" cy="62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1049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-360" y="404280"/>
            <a:ext cx="971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457D-F4A3-4A16-9D52-E6BA62F1B7F1}" type="datetime">
              <a:rPr b="1" lang="zh-TW" sz="1200" spc="-1" strike="noStrike">
                <a:solidFill>
                  <a:srgbClr val="ffffff"/>
                </a:solidFill>
                <a:latin typeface="Arial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712000" y="404280"/>
            <a:ext cx="431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C5D6-15B4-48D7-BF58-A1D509C72C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985080" y="6264360"/>
            <a:ext cx="971640" cy="619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133720" y="6264360"/>
            <a:ext cx="971280" cy="6192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152360" y="6264360"/>
            <a:ext cx="981360" cy="6192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103560" y="6264360"/>
            <a:ext cx="971640" cy="6192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4073400" y="6264360"/>
            <a:ext cx="971640" cy="61920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45040" y="6264360"/>
            <a:ext cx="971640" cy="61920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6014880" y="6264360"/>
            <a:ext cx="971640" cy="619200"/>
          </a:xfrm>
          <a:prstGeom prst="rect">
            <a:avLst/>
          </a:prstGeom>
          <a:ln w="0">
            <a:noFill/>
          </a:ln>
        </p:spPr>
      </p:pic>
      <p:sp>
        <p:nvSpPr>
          <p:cNvPr id="14" name="">
            <a:hlinkClick r:id="" action="ppaction://hlinkshowjump?jump=firstslide"/>
          </p:cNvPr>
          <p:cNvSpPr/>
          <p:nvPr/>
        </p:nvSpPr>
        <p:spPr>
          <a:xfrm>
            <a:off x="468360" y="6453360"/>
            <a:ext cx="287280" cy="2887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8720"/>
              <a:gd name="textAreaBottom" fmla="*/ 270360 h 28872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7301" y="10854"/>
                </a:moveTo>
                <a:lnTo>
                  <a:pt x="17806" y="3848"/>
                </a:lnTo>
                <a:lnTo>
                  <a:pt x="17806" y="17861"/>
                </a:lnTo>
                <a:close/>
              </a:path>
              <a:path fill="darken" w="21600" h="21708">
                <a:moveTo>
                  <a:pt x="3794" y="3848"/>
                </a:moveTo>
                <a:lnTo>
                  <a:pt x="5456" y="3848"/>
                </a:lnTo>
                <a:lnTo>
                  <a:pt x="5456" y="17861"/>
                </a:lnTo>
                <a:lnTo>
                  <a:pt x="3794" y="178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">
            <a:hlinkClick r:id="" action="ppaction://hlinkshowjump?jump=lastslide"/>
          </p:cNvPr>
          <p:cNvSpPr/>
          <p:nvPr/>
        </p:nvSpPr>
        <p:spPr>
          <a:xfrm>
            <a:off x="8459640" y="6453360"/>
            <a:ext cx="287640" cy="287280"/>
          </a:xfrm>
          <a:custGeom>
            <a:avLst/>
            <a:gdLst>
              <a:gd name="textAreaLeft" fmla="*/ 18360 w 287640"/>
              <a:gd name="textAreaRight" fmla="*/ 269280 w 28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14312" y="10800"/>
                </a:moveTo>
                <a:lnTo>
                  <a:pt x="3807" y="17806"/>
                </a:lnTo>
                <a:lnTo>
                  <a:pt x="3807" y="3794"/>
                </a:lnTo>
                <a:close/>
              </a:path>
              <a:path fill="darken" w="21627" h="21600">
                <a:moveTo>
                  <a:pt x="16158" y="3794"/>
                </a:moveTo>
                <a:lnTo>
                  <a:pt x="16158" y="17806"/>
                </a:lnTo>
                <a:lnTo>
                  <a:pt x="17820" y="17806"/>
                </a:lnTo>
                <a:lnTo>
                  <a:pt x="17820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0"/>
    <p:sldLayoutId id="2147483650" r:id="rId21"/>
    <p:sldLayoutId id="2147483651" r:id="rId22"/>
    <p:sldLayoutId id="2147483652" r:id="rId23"/>
    <p:sldLayoutId id="2147483653" r:id="rId24"/>
    <p:sldLayoutId id="2147483654" r:id="rId25"/>
    <p:sldLayoutId id="2147483655" r:id="rId26"/>
    <p:sldLayoutId id="2147483656" r:id="rId27"/>
    <p:sldLayoutId id="2147483657" r:id="rId28"/>
    <p:sldLayoutId id="2147483658" r:id="rId29"/>
    <p:sldLayoutId id="2147483659" r:id="rId30"/>
    <p:sldLayoutId id="2147483660" r:id="rId3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B806-8712-4FF0-9559-058393D0888F}" type="datetime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9062-4E68-4C16-A41E-ABF8556B26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indent="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Second Outline Level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800080"/>
                </a:solidFill>
                <a:latin typeface="Times New Roman"/>
              </a:rPr>
              <a:t>資訊月</a:t>
            </a:r>
            <a:endParaRPr b="1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26920" y="4005360"/>
            <a:ext cx="60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3" name="Picture 11" descr="LOGO"/>
          <p:cNvPicPr/>
          <p:nvPr/>
        </p:nvPicPr>
        <p:blipFill>
          <a:blip r:embed="rId2"/>
          <a:stretch/>
        </p:blipFill>
        <p:spPr>
          <a:xfrm>
            <a:off x="1476360" y="1197000"/>
            <a:ext cx="1432080" cy="14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1" descr="LOGO"/>
          <p:cNvPicPr/>
          <p:nvPr/>
        </p:nvPicPr>
        <p:blipFill>
          <a:blip r:embed="rId2"/>
          <a:stretch/>
        </p:blipFill>
        <p:spPr>
          <a:xfrm>
            <a:off x="1403280" y="1484280"/>
            <a:ext cx="1432080" cy="1432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3"/>
          <p:cNvSpPr/>
          <p:nvPr/>
        </p:nvSpPr>
        <p:spPr>
          <a:xfrm>
            <a:off x="2916360" y="907920"/>
            <a:ext cx="31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1" descr=""/>
          <p:cNvPicPr/>
          <p:nvPr/>
        </p:nvPicPr>
        <p:blipFill>
          <a:blip r:embed="rId3"/>
          <a:stretch/>
        </p:blipFill>
        <p:spPr>
          <a:xfrm>
            <a:off x="4500720" y="1989000"/>
            <a:ext cx="3832200" cy="11052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626920" y="4005360"/>
            <a:ext cx="60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台 北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/12/03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~100/12/11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台 北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/12/16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~100/12/21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高雄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/12/30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~101/01/04 (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9" name="Picture 22" descr=""/>
          <p:cNvPicPr/>
          <p:nvPr/>
        </p:nvPicPr>
        <p:blipFill>
          <a:blip r:embed="rId4"/>
          <a:stretch/>
        </p:blipFill>
        <p:spPr>
          <a:xfrm>
            <a:off x="2916360" y="549360"/>
            <a:ext cx="3743280" cy="16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3300"/>
                </a:solidFill>
                <a:latin typeface="Times New Roman"/>
              </a:rPr>
              <a:t>資訊月主題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0 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年資訊月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科技觸動我心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9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年資訊月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擁抱智慧生活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8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年資訊月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邁向智慧生活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7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年資訊月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移動科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‧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隨心所欲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6"/>
              </a:buBlip>
              <a:tabLst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6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年資訊月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愛上數位生活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7"/>
              </a:buBlip>
              <a:tabLst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5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年資訊月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擁抱數位生活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8"/>
              </a:buBlip>
              <a:tabLst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4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年資訊月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創意、關懷、迎向未來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>
            <a:hlinkClick r:id="rId9" action="ppaction://hlinksldjump"/>
          </p:cNvPr>
          <p:cNvSpPr/>
          <p:nvPr/>
        </p:nvSpPr>
        <p:spPr>
          <a:xfrm>
            <a:off x="684360" y="1341360"/>
            <a:ext cx="5040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>
            <a:hlinkClick r:id="rId10" action="ppaction://hlinksldjump"/>
          </p:cNvPr>
          <p:cNvSpPr/>
          <p:nvPr/>
        </p:nvSpPr>
        <p:spPr>
          <a:xfrm>
            <a:off x="684360" y="2060640"/>
            <a:ext cx="504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>
            <a:hlinkClick r:id="rId11" action="ppaction://hlinksldjump"/>
          </p:cNvPr>
          <p:cNvSpPr/>
          <p:nvPr/>
        </p:nvSpPr>
        <p:spPr>
          <a:xfrm>
            <a:off x="684360" y="2708280"/>
            <a:ext cx="504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>
            <a:hlinkClick r:id="rId12" action="ppaction://hlinksldjump"/>
          </p:cNvPr>
          <p:cNvSpPr/>
          <p:nvPr/>
        </p:nvSpPr>
        <p:spPr>
          <a:xfrm>
            <a:off x="684360" y="3357720"/>
            <a:ext cx="5975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4076640"/>
            <a:ext cx="504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4797360"/>
            <a:ext cx="5040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5445000"/>
            <a:ext cx="6264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0060F-45F1-417D-9415-8A09546243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2844E-E0A1-4D68-967F-6C7BD2F31432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00 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年資訊月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科技觸動我心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館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圖片 3" descr=""/>
          <p:cNvPicPr/>
          <p:nvPr/>
        </p:nvPicPr>
        <p:blipFill>
          <a:blip r:embed="rId4"/>
          <a:stretch/>
        </p:blipFill>
        <p:spPr>
          <a:xfrm>
            <a:off x="6372360" y="2565360"/>
            <a:ext cx="10000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DDA4D-879C-4B6F-A3B5-02DEFAB52F6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7C41C-9FBE-420A-8BB9-D743292D790A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99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年資訊月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擁抱智慧生活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即時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簡便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享受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館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雲端科技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精采創新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3D</a:t>
            </a: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智慧生活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行動生活體驗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生活應用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118" name="Picture 11" descr="99資訊月 擁抱智慧生活"/>
          <p:cNvPicPr/>
          <p:nvPr/>
        </p:nvPicPr>
        <p:blipFill>
          <a:blip r:embed="rId4"/>
          <a:stretch/>
        </p:blipFill>
        <p:spPr>
          <a:xfrm>
            <a:off x="4716360" y="1916280"/>
            <a:ext cx="2795760" cy="395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34FFA-091C-462F-9C6D-5E2F4629274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3E680-98E4-4E1F-9CD7-980C0B3F412B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8" descr="98資訊月 邁向智慧生活"/>
          <p:cNvPicPr/>
          <p:nvPr/>
        </p:nvPicPr>
        <p:blipFill>
          <a:blip r:embed="rId2"/>
          <a:stretch/>
        </p:blipFill>
        <p:spPr>
          <a:xfrm>
            <a:off x="4716360" y="1916280"/>
            <a:ext cx="2748240" cy="3889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98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年資訊月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邁向智慧生活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觸控 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- Touch 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輕省 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- High Performance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即時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- Instant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簡單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- Simple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館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精采創新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3D</a:t>
            </a: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未來夢想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3D</a:t>
            </a: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觸控科技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1A17C-273A-41AB-9E71-92D8C555438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73D37-E2B9-4EC3-87DC-62BC3E355F72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4" descr="97資訊月 移動科技‧隨心所欲"/>
          <p:cNvPicPr/>
          <p:nvPr/>
        </p:nvPicPr>
        <p:blipFill>
          <a:blip r:embed="rId2"/>
          <a:stretch/>
        </p:blipFill>
        <p:spPr>
          <a:xfrm>
            <a:off x="4716360" y="1916280"/>
            <a:ext cx="2748240" cy="3889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3"/>
          <p:cNvSpPr/>
          <p:nvPr/>
        </p:nvSpPr>
        <p:spPr>
          <a:xfrm>
            <a:off x="2916360" y="907920"/>
            <a:ext cx="31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97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年資訊月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移動科技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‧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隨心所欲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移動科技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隨心所欲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館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移動世界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移動美學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移動風尚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生活體驗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行動享樂館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微型頭影世界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影音遊樂園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377B9-F4E7-49B0-AFDF-363B0E8B758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08B9D-B6B8-4DF4-A463-8EB278443297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2" descr="96資訊月 愛上數位生活 "/>
          <p:cNvPicPr/>
          <p:nvPr/>
        </p:nvPicPr>
        <p:blipFill>
          <a:blip r:embed="rId2"/>
          <a:stretch/>
        </p:blipFill>
        <p:spPr>
          <a:xfrm>
            <a:off x="4716360" y="1916280"/>
            <a:ext cx="2748240" cy="3889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96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年資訊月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愛上數位生活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愛上數位生活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館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便利生活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娛樂生活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品味生活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7A852-9BEE-4E13-94FB-CA25C55A378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5332F-8363-4548-A50F-4520F14D2829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95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年資訊月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擁抱數位生活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擁抱數位生活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館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AMD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Asus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Garmin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Nokia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Sony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Tivo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其他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pic>
        <p:nvPicPr>
          <p:cNvPr id="131" name="Picture 18" descr="95資訊月 擁抱數位生活"/>
          <p:cNvPicPr/>
          <p:nvPr/>
        </p:nvPicPr>
        <p:blipFill>
          <a:blip r:embed="rId4"/>
          <a:stretch/>
        </p:blipFill>
        <p:spPr>
          <a:xfrm>
            <a:off x="4716360" y="1916280"/>
            <a:ext cx="2748240" cy="38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FC5D4-975F-4658-9BEE-5F92E390D90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C210C-8B38-4A88-BEC1-E11D55776908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94資訊月 創意、關懷、迎向未來"/>
          <p:cNvPicPr/>
          <p:nvPr/>
        </p:nvPicPr>
        <p:blipFill>
          <a:blip r:embed="rId2"/>
          <a:stretch/>
        </p:blipFill>
        <p:spPr>
          <a:xfrm>
            <a:off x="4716360" y="1916280"/>
            <a:ext cx="2759040" cy="3889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94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資訊月創意、關懷、迎向未來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創意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關懷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迎向未來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Times New Roman"/>
              </a:rPr>
              <a:t>主題館：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3D</a:t>
            </a: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影像區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立體顯像區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家庭娛樂中心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行動享樂城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Times New Roman"/>
              </a:rPr>
              <a:t>科技環保風 </a:t>
            </a: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7F46D-3181-490E-A666-E7D11827F18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44E65-7EDC-4FF7-942A-24620FEE98C9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01:23:11Z</dcterms:created>
  <dc:creator/>
  <dc:description/>
  <dc:language>en-US</dc:language>
  <cp:lastModifiedBy/>
  <dcterms:modified xsi:type="dcterms:W3CDTF">2011-09-03T14:28:46Z</dcterms:modified>
  <cp:revision>49</cp:revision>
  <dc:subject/>
  <dc:title>訓練新員工</dc:title>
</cp:coreProperties>
</file>