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174-FC4C-4B8A-9296-500493A7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743-164C-479F-BE7E-0D7C086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BCC-46D6-4D1E-AFE8-00F3A7B8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CF2-3CB6-499F-8B32-4BCD45F3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DAA8-2B2F-4AF4-8740-246F9FE8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9A2-08FC-4600-BC25-C491FAA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408-B14F-4381-AAAD-41BA85FA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D1E3-658D-415D-A319-2A68647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494-31DE-4382-AA4C-BBF1F2D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F163-75A4-4B57-8513-978D557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07E2-3D48-4B12-B7F1-21CF654D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156-021E-4689-81B0-DC14F268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9057-DA33-40D2-93D9-21B15D0D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C8B-E101-4BCD-9674-302519C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823-526D-4347-BE8C-85439030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F11-60B7-4638-8628-5716D681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37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56960" y="16999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05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037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56960" y="3957120"/>
            <a:ext cx="16693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C9D9-F2CB-4881-8AA8-AD214C7E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6F2-6715-4672-919A-602F8EB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56D-E4FC-476D-827D-9104E1A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2EE-61FA-471A-B082-FB841F3B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BF8-5E91-44FB-BE65-0B262B53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DDA5-EE44-4B3B-A25B-C44C214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360" y="39571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CD2-9FEA-49C0-92F3-764BD14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360" y="1699920"/>
            <a:ext cx="2530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560" y="3957120"/>
            <a:ext cx="51850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52F-330A-4874-9EFB-3788496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512640" indent="-196920">
              <a:spcBef>
                <a:spcPts val="270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2" marL="78840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3" marL="110412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4" marL="1419480" indent="-157680">
              <a:spcBef>
                <a:spcPts val="2701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5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6" marL="1419480" indent="-157680">
              <a:spcBef>
                <a:spcPts val="27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E015-CCDA-46E0-896D-45BBB5AE9A47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BA1-2B4D-49AA-A109-F741627EEF70}" type="slidenum">
              <a:rPr b="0" lang="zh-TW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1950"/>
              </a:spcBef>
              <a:buClr>
                <a:srgbClr val="8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800000"/>
              </a:solidFill>
              <a:latin typeface="Times New Roman"/>
            </a:endParaRPr>
          </a:p>
          <a:p>
            <a:pPr lvl="3" marL="1371600" algn="ctr">
              <a:spcBef>
                <a:spcPts val="1800"/>
              </a:spcBef>
              <a:buClr>
                <a:srgbClr val="8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4" marL="1828800" algn="ctr">
              <a:spcBef>
                <a:spcPts val="1650"/>
              </a:spcBef>
              <a:buClr>
                <a:srgbClr val="8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5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  <a:p>
            <a:pPr lvl="6" marL="1828800">
              <a:spcBef>
                <a:spcPts val="550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中國傳統節慶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中 國 傳 統 節 日 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春 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元宵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清明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端午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90800" y="1699920"/>
            <a:ext cx="2544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元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中秋節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冬 至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</a:rPr>
              <a:t>除 夕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Times New Roman"/>
              </a:rPr>
              <a:t>春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春　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爆竹聲中一歲除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春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春聯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貼年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放鞭炮、燃焰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舞龍 、舞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元　宵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新細明體"/>
              </a:rPr>
              <a:t>元　宵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東風夜放花千歲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2701"/>
              </a:spcBef>
              <a:buClr>
                <a:srgbClr val="0000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新細明體"/>
              </a:rPr>
              <a:t>元宵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張燈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猜燈謎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吃元宵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新細明體"/>
              </a:rPr>
              <a:t>鬧社火 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00"/>
                </a:solidFill>
                <a:latin typeface="新細明體"/>
              </a:rPr>
              <a:t>端　午　節</a:t>
            </a:r>
            <a:endParaRPr b="1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SF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端　午　節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51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龍舟競渡悼中魂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25800" indent="-325800">
              <a:spcBef>
                <a:spcPts val="27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</a:rPr>
              <a:t>端午節的習俗與傳說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賽龍舟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吃粽子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插艾枝、掛昌蒲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  <a:p>
            <a:pPr lvl="1" marL="705600" indent="-271440">
              <a:spcBef>
                <a:spcPts val="2251"/>
              </a:spcBef>
              <a:buClr>
                <a:srgbClr val="800000"/>
              </a:buClr>
              <a:buSzPct val="12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800000"/>
                </a:solidFill>
                <a:latin typeface="Times New Roman"/>
              </a:rPr>
              <a:t>飲雄黃酒、佩香包</a:t>
            </a:r>
            <a:endParaRPr b="0" lang="en-US" sz="3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2:30:45Z</dcterms:created>
  <dc:creator>陳美玲</dc:creator>
  <dc:description/>
  <dc:language>en-US</dc:language>
  <cp:lastModifiedBy>sammi_tsai</cp:lastModifiedBy>
  <dcterms:modified xsi:type="dcterms:W3CDTF">2005-11-08T08:35:22Z</dcterms:modified>
  <cp:revision>18</cp:revision>
  <dc:subject/>
  <dc:title>中國傳統節慶</dc:title>
</cp:coreProperties>
</file>