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37F2-A965-42DD-A6D5-8AA959264A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肉食者的頭骨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頭部上下顎比其他類動物短，這種構造讓咬合更有力，也因此頭顱外形較圓，與狗或熊頭骨口鼻部突出狀截然不同。貓科動物都是純粹的肉食者，牠的消化系統簡單，腸道很短，只適合消化肉類，甚少攝取昆蟲或植物等臉譜，每隻老虎都不一樣：老虎的臉，斑紋鮮豔而複雜，看起來威風異常。額頭的斑紋形似個「王」字，難怪虎皮在華人世界又象徵權勢。由於每隻老虎臉部的斑紋都不相同，就像人類指紋一樣，調查人員可用來辨認不同個體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牙齒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的顎骨短，牙齒數目不多，僅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8-30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顆，但每顆都很銳利，便於切割肉類。其中，老虎的犬齒狀如匕首，是肉食動物中最長的。特別注意犬齒與臼齒間出現的大縫隙，如此在攻擊時，犬齒便能咬得更深，就連臼齒也尖銳鋒利，可切開皮肉。最特殊的是門齒，排成一直線，像一把刮刀，可刮下骨頭表面黏附的殘肉。肉塊到了嘴裡會全數吞下，並不咀嚼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發光夜視眼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貓科動物和許多夜行的動物例如狼、犬、飛鼠等，眼底網膜後方都多了一層特殊膜層，稱為視毯，能夠將進入的光線反射增強；老虎的夜間視力是人類的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倍，這也是為甚麼黑暗中牠們的眼睛看起來好像會發光一樣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耳朵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對高音波很敏感，同時也是傳訊的工具：聽力絕佳，特別是對高頻率音波，可達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70KHz (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人類可以聽到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20KHz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以下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，兩耳還可隨聲音來源轉向，因此像老鼠發出的細吱叫聲，或鑽動的窸索微響，在牠們聽來是再清楚不過了。隨著心情，耳朵後貼或豎起，許多野生貓科動物耳背有明顯白斑，隨耳朵的轉向而擺動，可以向對手傳達訊息例如“不要過來！”，也可以幫助幼兒在昏暗草叢中辨認媽媽，以便緊緊跟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貓科的專利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：伸縮自如的爪子：貓科動物時常磨爪子，更特別的是每個爪子皆附有一骨質爪鞘，行走或奔跑時爪子縮入鞘裡，避免磨損，所以能永保鋒利。相較之下，熊或犬等動物就沒有爪鞘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保護色：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－條紋外表是用來掩護的迷彩裝：黃黑相間的鮮亮外表，當殺手豈不是太突出了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一般貓科動物的典型斑紋是斑點，帶有少許條紋，如花豹，但老虎則是以明顯無比的縱紋為主。其實在光線和陰影交錯的密林裡，老虎身上的彩紋正好與黃昏草叢背景融為一體，且縱走的斑紋可以打破身體的輪廓線，讓獵物不易發覺有一個『虎形狀』的動物靠近牠，是很好的保護色呢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FF5-70EB-4D5F-9BB2-70B29B4A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B86-6A50-4B5F-BFB2-BBD1CD25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AB6-058D-483D-8A76-A79A2D6A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C53-D1D9-432D-B24F-232D9E30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A3AC-E2E2-4261-A036-D67B5306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F610-DDDC-45A6-B7F9-F763921C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E2D-8AB2-48B7-BB83-DADE7A4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D33C-F483-40EC-9A0E-A08523C4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DB4-29E2-4B99-9C16-4823F826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B92-D5BD-44FA-9B24-6D923EAE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B29-D25A-4E15-9720-352F887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260-5BDC-48CD-9861-E6926579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05A-4F4F-4ED5-A630-09A8E12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063C-2643-4586-A8A9-AFEF310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D358-7097-4FDF-94DD-627B07DA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3F6F-E173-43B0-9450-F268A0CC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6845-088B-4D33-BD2E-F8EC40AA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84A-CF9B-4992-BAEE-01C8A06A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51E-AA16-4E71-896C-5909336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2DA-52C9-4BF8-A65F-30C17A32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778-E143-4331-A0F8-BFB6827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64C-E716-4289-8587-55CEC8DB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594-34E9-4AF0-AFAD-999D058B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CDF-1B62-4851-9E09-3713527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E909-C8CB-4E4C-A135-0137724A84FB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DAD6-863E-425D-B09A-21CADAACC85B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PPDCAT.WAV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chinese.discovery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/>
          </p:cNvPr>
          <p:cNvSpPr/>
          <p:nvPr/>
        </p:nvSpPr>
        <p:spPr>
          <a:xfrm>
            <a:off x="3684600" y="4371840"/>
            <a:ext cx="2371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013440" y="3598920"/>
            <a:ext cx="31813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7280" y="1052640"/>
            <a:ext cx="6337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進化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evolution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生物隨著時間轉移而變化的理論，主要為物競天擇的結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在進化的後期，也就是生物由海洋移居陸地、平原為綠草覆蓋、而動物進化到以草為生後，出現了一種可怕的動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貓科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feline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屬於貓科的。貓科動物包括獅、虎、美洲豹、及野生和人類飼養的貓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【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貓科殺手的特徵有哪些？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3840" y="5084640"/>
            <a:ext cx="244008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">
            <a:hlinkClick r:id="rId3"/>
          </p:cNvPr>
          <p:cNvSpPr/>
          <p:nvPr/>
        </p:nvSpPr>
        <p:spPr>
          <a:xfrm>
            <a:off x="611280" y="476280"/>
            <a:ext cx="439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06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03:42:26Z</dcterms:created>
  <dc:creator>陳美玲</dc:creator>
  <dc:description/>
  <dc:language>en-US</dc:language>
  <cp:lastModifiedBy>sammi_tsai</cp:lastModifiedBy>
  <dcterms:modified xsi:type="dcterms:W3CDTF">2005-11-11T02:39:36Z</dcterms:modified>
  <cp:revision>16</cp:revision>
  <dc:subject/>
  <dc:title>投影片 1</dc:title>
</cp:coreProperties>
</file>