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1.png" ContentType="image/png"/>
  <Override PartName="/ppt/media/image4.png" ContentType="image/png"/>
  <Override PartName="/ppt/media/image20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1693-A90F-4EDE-BAC0-9B8C9BB2A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39BD-EBDE-47ED-B496-E08EBD25F9CB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8865-1040-4022-A44C-67DEE4E03F8B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6E60-01DE-43BD-BB14-8E339968C50E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A80C-7F10-42CC-A763-637CFE31D9E4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B082-713C-482E-917E-B4A5D02407C0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7AE8-D880-45C8-9849-3517D6CF0DA7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AFA5-EFCE-4C09-B4AB-CF5153DDE0E7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2D6C-2B20-4A59-A3E0-70CF266615F7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9B4F3-CA6B-4502-BB5D-3FD31A4F9B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94760" y="268920"/>
            <a:ext cx="7451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77770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10920" y="3805920"/>
            <a:ext cx="77770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BE585-D0AE-4CED-ADF2-47EDB385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94760" y="268920"/>
            <a:ext cx="7451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3795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96120" y="1268280"/>
            <a:ext cx="3795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920" y="3805920"/>
            <a:ext cx="3795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96120" y="3805920"/>
            <a:ext cx="3795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F585B-FBE1-4E6A-AF38-3463CB56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4760" y="268920"/>
            <a:ext cx="7451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2503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0360" y="1268280"/>
            <a:ext cx="2503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869800" y="1268280"/>
            <a:ext cx="2503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10920" y="3805920"/>
            <a:ext cx="2503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0360" y="3805920"/>
            <a:ext cx="2503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869800" y="3805920"/>
            <a:ext cx="2503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2E2CE-D579-47FB-9FA3-674EC12504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2A1A5-8F66-4133-8265-E870EF80E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4760" y="268920"/>
            <a:ext cx="7451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EA884-582A-420A-828E-EC305F72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4760" y="268920"/>
            <a:ext cx="7451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FF907-3E84-4EC2-892A-FD6D5E6D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4760" y="268920"/>
            <a:ext cx="7451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37951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120" y="1268280"/>
            <a:ext cx="37951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8F2D9-E4D2-4A08-9781-70AA7B15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4760" y="268920"/>
            <a:ext cx="7451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72375-FF02-499F-809B-2D286E83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4760" y="311760"/>
            <a:ext cx="7451280" cy="28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7F21F-750F-4F74-A27E-0F989053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4760" y="268920"/>
            <a:ext cx="7451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3795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6120" y="1268280"/>
            <a:ext cx="37951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0920" y="3805920"/>
            <a:ext cx="3795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31634-8B7E-4DEE-BB0B-CAFCD6DC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4760" y="268920"/>
            <a:ext cx="7451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2BEDE-0AEE-47A1-80E1-CDC80DB9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4760" y="268920"/>
            <a:ext cx="7451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37951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6120" y="1268280"/>
            <a:ext cx="3795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96120" y="3805920"/>
            <a:ext cx="3795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29DB8-B3B1-44B8-8CD7-B27DACB6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4760" y="268920"/>
            <a:ext cx="7451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3795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6120" y="1268280"/>
            <a:ext cx="3795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920" y="3805920"/>
            <a:ext cx="77770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69054-FEBE-46D2-8161-48AC6462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4760" y="268920"/>
            <a:ext cx="7451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77770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0920" y="3805920"/>
            <a:ext cx="77770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5BA93-A014-47A8-977D-4DC40023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4760" y="268920"/>
            <a:ext cx="7451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3795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6120" y="1268280"/>
            <a:ext cx="3795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920" y="3805920"/>
            <a:ext cx="3795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96120" y="3805920"/>
            <a:ext cx="3795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B83E1-23E7-467A-AC64-7DA2CB6A5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4760" y="268920"/>
            <a:ext cx="7451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2503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40360" y="1268280"/>
            <a:ext cx="2503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69800" y="1268280"/>
            <a:ext cx="2503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0920" y="3805920"/>
            <a:ext cx="2503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40360" y="3805920"/>
            <a:ext cx="2503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69800" y="3805920"/>
            <a:ext cx="2503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75DA2-D933-43C0-B3BC-9C23CAB95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94760" y="268920"/>
            <a:ext cx="7451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C690C-169D-4B9D-B75C-0FE963BD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94760" y="268920"/>
            <a:ext cx="7451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37951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120" y="1268280"/>
            <a:ext cx="37951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847F2-7C04-4289-9A19-A23A5FC8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4760" y="268920"/>
            <a:ext cx="7451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0FA8F-3519-4B64-9BDB-8568F7C3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94760" y="311760"/>
            <a:ext cx="7451280" cy="28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BB5FC-8CA6-47DE-B0A1-B100255BF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4760" y="268920"/>
            <a:ext cx="7451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3795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6120" y="1268280"/>
            <a:ext cx="37951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10920" y="3805920"/>
            <a:ext cx="3795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19239-3143-4636-B6AA-A514B253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94760" y="268920"/>
            <a:ext cx="7451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37951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6120" y="1268280"/>
            <a:ext cx="3795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96120" y="3805920"/>
            <a:ext cx="3795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DF844-73B0-479A-9A62-65BB2C84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94760" y="268920"/>
            <a:ext cx="7451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3795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6120" y="1268280"/>
            <a:ext cx="379512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920" y="3805920"/>
            <a:ext cx="77770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D1610-AA94-4E5E-8B8D-0FA08EFD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rcRect l="2880" t="0" r="0" b="0"/>
          <a:stretch/>
        </p:blipFill>
        <p:spPr>
          <a:xfrm>
            <a:off x="0" y="6265800"/>
            <a:ext cx="6048360" cy="61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404640"/>
            <a:ext cx="9144000" cy="360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7" descr=""/>
          <p:cNvPicPr/>
          <p:nvPr/>
        </p:nvPicPr>
        <p:blipFill>
          <a:blip r:embed="rId4"/>
          <a:srcRect l="81426" t="13187" r="1190" b="12000"/>
          <a:stretch/>
        </p:blipFill>
        <p:spPr>
          <a:xfrm>
            <a:off x="7885080" y="6264360"/>
            <a:ext cx="1268280" cy="62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94760" y="311760"/>
            <a:ext cx="7451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17819" dir="2700000" blurRad="0" rotWithShape="0">
              <a:srgbClr val="3366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343080" indent="-343080">
              <a:lnSpc>
                <a:spcPct val="130000"/>
              </a:lnSpc>
              <a:spcBef>
                <a:spcPts val="1049"/>
              </a:spcBef>
              <a:buClr>
                <a:srgbClr val="9900cc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343080" indent="-343080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343080" indent="-343080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343080" indent="-343080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343080" indent="-343080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343080" indent="-343080">
              <a:lnSpc>
                <a:spcPct val="13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-360" y="404280"/>
            <a:ext cx="971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712000" y="404280"/>
            <a:ext cx="431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2133720" y="6264360"/>
            <a:ext cx="971280" cy="619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6"/>
          <a:stretch/>
        </p:blipFill>
        <p:spPr>
          <a:xfrm>
            <a:off x="1152360" y="6264360"/>
            <a:ext cx="981360" cy="6192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7"/>
          <a:stretch/>
        </p:blipFill>
        <p:spPr>
          <a:xfrm>
            <a:off x="3103560" y="6264360"/>
            <a:ext cx="971640" cy="61920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8"/>
          <a:stretch/>
        </p:blipFill>
        <p:spPr>
          <a:xfrm>
            <a:off x="4067280" y="6264360"/>
            <a:ext cx="971280" cy="61920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9"/>
          <a:stretch/>
        </p:blipFill>
        <p:spPr>
          <a:xfrm>
            <a:off x="5040360" y="6264360"/>
            <a:ext cx="971640" cy="61920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10"/>
          <a:stretch/>
        </p:blipFill>
        <p:spPr>
          <a:xfrm>
            <a:off x="6948360" y="6264360"/>
            <a:ext cx="971640" cy="62064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11"/>
          <a:stretch/>
        </p:blipFill>
        <p:spPr>
          <a:xfrm>
            <a:off x="6014880" y="6264360"/>
            <a:ext cx="971640" cy="62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800080"/>
                </a:solidFill>
                <a:latin typeface="Arial"/>
              </a:rPr>
              <a:t>Click to edit the title text format</a:t>
            </a:r>
            <a:endParaRPr b="1" lang="en-US" sz="6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618F-87E3-4654-9E6D-F10A43673596}" type="datetime">
              <a:rPr b="0" lang="zh-TW" sz="1200" spc="-1" strike="noStrike">
                <a:solidFill>
                  <a:srgbClr val="898989"/>
                </a:solidFill>
                <a:latin typeface="Calibri"/>
              </a:rPr>
              <a:t>115/0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74A6-E1BB-44D0-9A3F-C278E8EAE9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3"/>
          <a:stretch/>
        </p:blipFill>
        <p:spPr>
          <a:xfrm>
            <a:off x="0" y="1440"/>
            <a:ext cx="37209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094760" y="311760"/>
            <a:ext cx="7451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17819" dir="2700000" blurRad="0" rotWithShape="0">
              <a:srgbClr val="3366ff"/>
            </a:outerShdw>
          </a:effectLst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3300"/>
                </a:solidFill>
                <a:latin typeface="Arial"/>
              </a:rPr>
              <a:t>資訊月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00" name="Picture 11" descr="LOGO"/>
          <p:cNvPicPr/>
          <p:nvPr/>
        </p:nvPicPr>
        <p:blipFill>
          <a:blip r:embed="rId2"/>
          <a:stretch/>
        </p:blipFill>
        <p:spPr>
          <a:xfrm>
            <a:off x="1476360" y="1197000"/>
            <a:ext cx="1432080" cy="143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D5FAD-2D76-408A-9823-280D5DB7DE0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A77A6A-A0ED-4312-89F4-19D3A2A1A2EE}" type="datetime1">
              <a:rPr lang="en-US"/>
              <a:t>07/28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094760" y="311760"/>
            <a:ext cx="7451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17819" dir="2700000" blurRad="0" rotWithShape="0">
              <a:srgbClr val="3366ff"/>
            </a:outerShdw>
          </a:effectLst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100 </a:t>
            </a:r>
            <a:r>
              <a:rPr b="0" lang="zh-TW" sz="3600" spc="-1" strike="noStrike">
                <a:solidFill>
                  <a:srgbClr val="ff3300"/>
                </a:solidFill>
                <a:latin typeface="Arial"/>
              </a:rPr>
              <a:t>年資訊月</a:t>
            </a:r>
            <a:r>
              <a:rPr b="0" lang="zh-TW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zh-TW" sz="3600" spc="-1" strike="noStrike">
                <a:solidFill>
                  <a:srgbClr val="ff3300"/>
                </a:solidFill>
                <a:latin typeface="Arial"/>
              </a:rPr>
              <a:t>科技觸動我心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Arial"/>
              </a:rPr>
              <a:t>主題：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自由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貼心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感動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Arial"/>
              </a:rPr>
              <a:t>主題館：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未來生活館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智慧觸動樂活館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微型圖書館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e7play</a:t>
            </a: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行動娛樂館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行動語音生活館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18160" y="1914480"/>
            <a:ext cx="2790720" cy="400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5EA6C-1322-4AA2-9222-F280D126B1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EF1E0E-F4E4-472E-9698-4C19608D44A5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094760" y="311760"/>
            <a:ext cx="7451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17819" dir="2700000" blurRad="0" rotWithShape="0">
              <a:srgbClr val="3366ff"/>
            </a:outerShdw>
          </a:effectLst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99</a:t>
            </a:r>
            <a:r>
              <a:rPr b="0" lang="zh-TW" sz="4000" spc="-1" strike="noStrike">
                <a:solidFill>
                  <a:srgbClr val="ff3300"/>
                </a:solidFill>
                <a:latin typeface="Arial"/>
              </a:rPr>
              <a:t>年資訊月</a:t>
            </a:r>
            <a:r>
              <a:rPr b="0" lang="zh-TW" sz="4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zh-TW" sz="4000" spc="-1" strike="noStrike">
                <a:solidFill>
                  <a:srgbClr val="ff3300"/>
                </a:solidFill>
                <a:latin typeface="Arial"/>
              </a:rPr>
              <a:t>擁抱智慧生活</a:t>
            </a:r>
            <a:endParaRPr b="0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Arial"/>
              </a:rPr>
              <a:t>主題：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即時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簡便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享受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Arial"/>
              </a:rPr>
              <a:t>主題館：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雲端科技館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精采創新館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3D</a:t>
            </a: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智慧生活館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行動生活體驗館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生活應用館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06" name="Picture 11" descr="99資訊月 擁抱智慧生活"/>
          <p:cNvPicPr/>
          <p:nvPr/>
        </p:nvPicPr>
        <p:blipFill>
          <a:blip r:embed="rId2"/>
          <a:stretch/>
        </p:blipFill>
        <p:spPr>
          <a:xfrm>
            <a:off x="4716360" y="1916280"/>
            <a:ext cx="2795760" cy="395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36071-34CB-4D77-98D5-E5CDEACC771D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F9580-C084-4B56-B19A-BBED0E444D71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8" descr="98資訊月 邁向智慧生活"/>
          <p:cNvPicPr/>
          <p:nvPr/>
        </p:nvPicPr>
        <p:blipFill>
          <a:blip r:embed="rId2"/>
          <a:stretch/>
        </p:blipFill>
        <p:spPr>
          <a:xfrm>
            <a:off x="4716360" y="1916280"/>
            <a:ext cx="2748240" cy="3889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094760" y="311760"/>
            <a:ext cx="7451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17819" dir="2700000" blurRad="0" rotWithShape="0">
              <a:srgbClr val="3366ff"/>
            </a:outerShdw>
          </a:effectLst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98</a:t>
            </a:r>
            <a:r>
              <a:rPr b="0" lang="zh-TW" sz="3600" spc="-1" strike="noStrike">
                <a:solidFill>
                  <a:srgbClr val="ff3300"/>
                </a:solidFill>
                <a:latin typeface="Arial"/>
              </a:rPr>
              <a:t>年資訊月</a:t>
            </a:r>
            <a:r>
              <a:rPr b="0" lang="zh-TW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zh-TW" sz="3600" spc="-1" strike="noStrike">
                <a:solidFill>
                  <a:srgbClr val="ff3300"/>
                </a:solidFill>
                <a:latin typeface="Arial"/>
              </a:rPr>
              <a:t>邁向智慧生活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Arial"/>
              </a:rPr>
              <a:t>主題：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觸控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- Touch 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  <a:ea typeface="新細明體"/>
              </a:rPr>
              <a:t>輕省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- High Performance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  <a:ea typeface="新細明體"/>
              </a:rPr>
              <a:t>即時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- Instant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  <a:ea typeface="新細明體"/>
              </a:rPr>
              <a:t>簡單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- Simple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Arial"/>
              </a:rPr>
              <a:t>主題館：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精采創新館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3D</a:t>
            </a:r>
            <a:r>
              <a:rPr b="1" lang="zh-TW" sz="1800" spc="-1" strike="noStrike">
                <a:solidFill>
                  <a:srgbClr val="9900cc"/>
                </a:solidFill>
                <a:latin typeface="Arial"/>
                <a:ea typeface="新細明體"/>
              </a:rPr>
              <a:t>未來夢想館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3D</a:t>
            </a:r>
            <a:r>
              <a:rPr b="1" lang="zh-TW" sz="1800" spc="-1" strike="noStrike">
                <a:solidFill>
                  <a:srgbClr val="9900cc"/>
                </a:solidFill>
                <a:latin typeface="Arial"/>
                <a:ea typeface="新細明體"/>
              </a:rPr>
              <a:t>觸控科技館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2A726-14E5-46AC-A326-44538CF22C8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D25EE4-58A3-435C-8FE2-014B56481B5A}" type="datetime1">
              <a:rPr lang="en-US"/>
              <a:t>07/28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4" descr="97資訊月 移動科技‧隨心所欲"/>
          <p:cNvPicPr/>
          <p:nvPr/>
        </p:nvPicPr>
        <p:blipFill>
          <a:blip r:embed="rId2"/>
          <a:stretch/>
        </p:blipFill>
        <p:spPr>
          <a:xfrm>
            <a:off x="4716360" y="1916280"/>
            <a:ext cx="2748240" cy="38890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3"/>
          <p:cNvSpPr/>
          <p:nvPr/>
        </p:nvSpPr>
        <p:spPr>
          <a:xfrm>
            <a:off x="2916360" y="907920"/>
            <a:ext cx="31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94760" y="311760"/>
            <a:ext cx="7451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17819" dir="2700000" blurRad="0" rotWithShape="0">
              <a:srgbClr val="3366ff"/>
            </a:outerShdw>
          </a:effectLst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97</a:t>
            </a:r>
            <a:r>
              <a:rPr b="0" lang="zh-TW" sz="3600" spc="-1" strike="noStrike">
                <a:solidFill>
                  <a:srgbClr val="ff3300"/>
                </a:solidFill>
                <a:latin typeface="Arial"/>
              </a:rPr>
              <a:t>年資訊月</a:t>
            </a:r>
            <a:r>
              <a:rPr b="0" lang="zh-TW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zh-TW" sz="3600" spc="-1" strike="noStrike">
                <a:solidFill>
                  <a:srgbClr val="ff3300"/>
                </a:solidFill>
                <a:latin typeface="Arial"/>
              </a:rPr>
              <a:t>移動科技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‧</a:t>
            </a:r>
            <a:r>
              <a:rPr b="0" lang="zh-TW" sz="3600" spc="-1" strike="noStrike">
                <a:solidFill>
                  <a:srgbClr val="ff3300"/>
                </a:solidFill>
                <a:latin typeface="Arial"/>
              </a:rPr>
              <a:t>隨心所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Arial"/>
              </a:rPr>
              <a:t>主題：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移動科技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隨心所欲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Arial"/>
              </a:rPr>
              <a:t>主題館：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移動世界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移動美學館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移動風尚館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生活體驗館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行動享樂館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微型頭影世界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影音遊樂園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B54B8-9C31-437B-81C6-A8A615A252AB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1EC37D-F875-4976-A771-B42F051F35BF}" type="datetime1">
              <a:rPr lang="en-US"/>
              <a:t>07/28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2" descr="96資訊月 愛上數位生活 "/>
          <p:cNvPicPr/>
          <p:nvPr/>
        </p:nvPicPr>
        <p:blipFill>
          <a:blip r:embed="rId2"/>
          <a:stretch/>
        </p:blipFill>
        <p:spPr>
          <a:xfrm>
            <a:off x="4716360" y="1916280"/>
            <a:ext cx="2748240" cy="3889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1094760" y="311760"/>
            <a:ext cx="7451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17819" dir="2700000" blurRad="0" rotWithShape="0">
              <a:srgbClr val="3366ff"/>
            </a:outerShdw>
          </a:effectLst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96</a:t>
            </a:r>
            <a:r>
              <a:rPr b="0" lang="zh-TW" sz="3600" spc="-1" strike="noStrike">
                <a:solidFill>
                  <a:srgbClr val="ff3300"/>
                </a:solidFill>
                <a:latin typeface="Arial"/>
              </a:rPr>
              <a:t>年資訊月</a:t>
            </a:r>
            <a:r>
              <a:rPr b="0" lang="zh-TW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zh-TW" sz="3600" spc="-1" strike="noStrike">
                <a:solidFill>
                  <a:srgbClr val="ff3300"/>
                </a:solidFill>
                <a:latin typeface="Arial"/>
              </a:rPr>
              <a:t>愛上數位生活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Arial"/>
              </a:rPr>
              <a:t>主題：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愛上數位生活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Arial"/>
              </a:rPr>
              <a:t>主題館：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便利生活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娛樂生活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品味生活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12ED5-9468-4286-8DF2-52152689382F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AD3C72-D35E-4EFC-9F47-09204A49672D}" type="datetime1">
              <a:rPr lang="en-US"/>
              <a:t>07/28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094760" y="311760"/>
            <a:ext cx="7451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17819" dir="2700000" blurRad="0" rotWithShape="0">
              <a:srgbClr val="3366ff"/>
            </a:outerShdw>
          </a:effectLst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95</a:t>
            </a:r>
            <a:r>
              <a:rPr b="0" lang="zh-TW" sz="3600" spc="-1" strike="noStrike">
                <a:solidFill>
                  <a:srgbClr val="ff3300"/>
                </a:solidFill>
                <a:latin typeface="Arial"/>
              </a:rPr>
              <a:t>年資訊月</a:t>
            </a:r>
            <a:r>
              <a:rPr b="0" lang="zh-TW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zh-TW" sz="3600" spc="-1" strike="noStrike">
                <a:solidFill>
                  <a:srgbClr val="ff3300"/>
                </a:solidFill>
                <a:latin typeface="Arial"/>
              </a:rPr>
              <a:t>擁抱數位生活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Arial"/>
              </a:rPr>
              <a:t>主題：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擁抱數位生活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Arial"/>
              </a:rPr>
              <a:t>主題館：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AMD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Asus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Garmin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Nokia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Sony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Tivo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  <a:ea typeface="新細明體"/>
              </a:rPr>
              <a:t>其他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19" name="Picture 18" descr="95資訊月 擁抱數位生活"/>
          <p:cNvPicPr/>
          <p:nvPr/>
        </p:nvPicPr>
        <p:blipFill>
          <a:blip r:embed="rId2"/>
          <a:stretch/>
        </p:blipFill>
        <p:spPr>
          <a:xfrm>
            <a:off x="4716360" y="1916280"/>
            <a:ext cx="2748240" cy="388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6DA90-EFF4-4108-AE70-43A46CE35BE0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84FE88-456A-4892-A37A-AB4CE3059681}" type="datetime1">
              <a:rPr lang="en-US"/>
              <a:t>07/28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" descr="94資訊月 創意、關懷、迎向未來"/>
          <p:cNvPicPr/>
          <p:nvPr/>
        </p:nvPicPr>
        <p:blipFill>
          <a:blip r:embed="rId2"/>
          <a:stretch/>
        </p:blipFill>
        <p:spPr>
          <a:xfrm>
            <a:off x="4716360" y="1916280"/>
            <a:ext cx="2759040" cy="3889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094760" y="311760"/>
            <a:ext cx="7451280" cy="6174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17819" dir="2700000" blurRad="0" rotWithShape="0">
              <a:srgbClr val="3366ff"/>
            </a:outerShdw>
          </a:effectLst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94</a:t>
            </a:r>
            <a:r>
              <a:rPr b="0" lang="zh-TW" sz="3600" spc="-1" strike="noStrike">
                <a:solidFill>
                  <a:srgbClr val="ff3300"/>
                </a:solidFill>
                <a:latin typeface="Arial"/>
              </a:rPr>
              <a:t>年資訊月創意、關懷、迎向未來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Arial"/>
              </a:rPr>
              <a:t>主題：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創意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關懷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</a:rPr>
              <a:t>迎向未來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Arial"/>
              </a:rPr>
              <a:t>主題館：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3D</a:t>
            </a:r>
            <a:r>
              <a:rPr b="1" lang="zh-TW" sz="1800" spc="-1" strike="noStrike">
                <a:solidFill>
                  <a:srgbClr val="9900cc"/>
                </a:solidFill>
                <a:latin typeface="Arial"/>
                <a:ea typeface="新細明體"/>
              </a:rPr>
              <a:t>影像區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  <a:ea typeface="新細明體"/>
              </a:rPr>
              <a:t>立體顯像區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  <a:ea typeface="新細明體"/>
              </a:rPr>
              <a:t>家庭娛樂中心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  <a:ea typeface="新細明體"/>
              </a:rPr>
              <a:t>行動享樂城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9900cc"/>
                </a:solidFill>
                <a:latin typeface="Arial"/>
                <a:ea typeface="新細明體"/>
              </a:rPr>
              <a:t>科技環保風 </a:t>
            </a: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B27EB-9790-4B76-971C-38A4CBB36521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C91E88-80B7-406A-A634-899A16576428}" type="datetime1">
              <a:rPr lang="en-US"/>
              <a:t>07/28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1" descr="LOGO"/>
          <p:cNvPicPr/>
          <p:nvPr/>
        </p:nvPicPr>
        <p:blipFill>
          <a:blip r:embed="rId2"/>
          <a:stretch/>
        </p:blipFill>
        <p:spPr>
          <a:xfrm>
            <a:off x="1403280" y="1484280"/>
            <a:ext cx="1432080" cy="14320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3"/>
          <p:cNvSpPr/>
          <p:nvPr/>
        </p:nvSpPr>
        <p:spPr>
          <a:xfrm>
            <a:off x="2916360" y="907920"/>
            <a:ext cx="31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1" descr=""/>
          <p:cNvPicPr/>
          <p:nvPr/>
        </p:nvPicPr>
        <p:blipFill>
          <a:blip r:embed="rId3"/>
          <a:stretch/>
        </p:blipFill>
        <p:spPr>
          <a:xfrm>
            <a:off x="4500720" y="1989000"/>
            <a:ext cx="3832200" cy="1105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-360" y="1268280"/>
            <a:ext cx="7777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台 北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/12/03(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~100/12/11(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台 中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/12/16(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~100/12/21(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高 雄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/12/30(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~101/01/04 (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27" name="Picture 22" descr=""/>
          <p:cNvPicPr/>
          <p:nvPr/>
        </p:nvPicPr>
        <p:blipFill>
          <a:blip r:embed="rId4"/>
          <a:stretch/>
        </p:blipFill>
        <p:spPr>
          <a:xfrm>
            <a:off x="2916360" y="549360"/>
            <a:ext cx="3743280" cy="160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45267-C3BA-4F49-8DCC-A6D5011F3A26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E5E930-DEB7-4990-8895-8202871A0B3B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01:23:11Z</dcterms:created>
  <dc:creator/>
  <dc:description/>
  <dc:language>en-US</dc:language>
  <cp:lastModifiedBy/>
  <dcterms:modified xsi:type="dcterms:W3CDTF">2011-10-28T06:38:28Z</dcterms:modified>
  <cp:revision>53</cp:revision>
  <dc:subject/>
  <dc:title>訓練新員工</dc:title>
</cp:coreProperties>
</file>