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CC69-94EC-44B8-ABB1-CAB369C50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CF71-A2D9-474B-AD82-11143BB1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B5C2-2ACE-4227-97B8-D6D088FD2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2931-8F6D-46D0-A59B-F3E7B8C1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432A-9F13-4D22-8F75-DDD7D509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7301-DEF4-4742-8E72-41B5DA8D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C8EC-50D1-423F-9094-700AAE90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2E67-FB0A-43A3-9A15-A2BEB128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3454-8A47-4AE2-9F36-553C840A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36C2-29E9-458C-AF42-1770CD13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D5E3-1FF3-475D-B8E2-261AD2AD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5D2D-E213-4791-A56C-43EEE800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DE2B-63FC-4535-BC21-5516B4A35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中國傳統節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中 國 傳 統 節 日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春 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元宵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清明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端午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元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秋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冬 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除 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春　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春　　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爆竹聲中一歲除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春節的習俗與傳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貼春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貼年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放鞭炮、燃焰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舞龍 、舞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新細明體"/>
              </a:rPr>
              <a:t>元　宵　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新細明體"/>
              </a:rPr>
              <a:t>元　宵　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新細明體"/>
              </a:rPr>
              <a:t>東風夜放花千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新細明體"/>
              </a:rPr>
              <a:t>元宵節的習俗與傳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張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猜燈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吃元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新細明體"/>
              </a:rPr>
              <a:t>鬧社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新細明體"/>
              </a:rPr>
              <a:t>端　午　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端　午　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龍舟競渡悼中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端午節的習俗與傳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賽龍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吃粽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插艾枝、掛昌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飲雄黃酒、佩香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7T02:30:45Z</dcterms:created>
  <dc:creator/>
  <dc:description/>
  <dc:language>en-US</dc:language>
  <cp:lastModifiedBy>陳美玲</cp:lastModifiedBy>
  <dcterms:modified xsi:type="dcterms:W3CDTF">2001-10-24T09:53:56Z</dcterms:modified>
  <cp:revision>16</cp:revision>
  <dc:subject/>
  <dc:title>中國傳統節慶</dc:title>
</cp:coreProperties>
</file>