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819-9C5C-4AEB-A9D8-11184EA1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F44-02B8-4D08-B5AB-15048AA5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7C5-A137-4C2D-B22F-64C7162F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F24-2C48-42DD-9454-077B7784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8A87-ABB3-47D6-AAC4-C59DB1F8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41B3-8E22-460B-8321-6220EF15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887E-5216-4D80-B170-8D1DED67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63B8-BDCC-4256-8BF5-8F32E2E3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411F-0E80-47A3-A04F-8BEB2AF5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314A-52E2-45A6-8B3C-204E55C4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3716-C722-4E1A-B12A-6288796C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D16-197A-4EBA-9BEF-A51D3F3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753A-9FE0-4A06-99C9-A5A99EF9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611E-773B-466E-A29B-3E3A7962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D170-C7D1-4FC8-AA78-745727CA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56DA-B7CF-48C0-83E8-8921E284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E6AA-9E35-4024-AE25-9C7E63A7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639-179E-48B1-AEB2-45FF5AB5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AA9-8B50-4310-B8DB-4AD2D2E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09C-D455-42C4-A133-663E7CF8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7CA-2D95-4CA1-A50E-8983FC30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74E-4D5F-4C1D-94C9-A834C945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F75-BBF6-426E-A7D9-F8FD635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5C5-AA19-48A3-8447-70F3358A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F21F-89F7-47AB-BE89-6256CDA50C0F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D131-6669-4701-BA76-C520348B3B80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87280" y="1052640"/>
            <a:ext cx="633744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進化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evolution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生物隨著時間轉移而變化的理論，主要為物競天擇的結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在進化的後期，也就是生物由海洋移居陸地、平原為綠草覆蓋、而動物進化到以草為生後，出現了一種可怕的動物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貓科的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(feline)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：屬於貓科的。貓科動物包括獅、虎、美洲豹、及野生和人類飼養的貓。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節目內容：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【</a:t>
            </a:r>
            <a:r>
              <a:rPr b="0" lang="zh-TW" sz="2400" spc="-1" strike="noStrike">
                <a:solidFill>
                  <a:srgbClr val="ffff00"/>
                </a:solidFill>
                <a:latin typeface="Arial"/>
              </a:rPr>
              <a:t>貓科殺手的特徵有哪些？</a:t>
            </a:r>
            <a:r>
              <a:rPr b="0" lang="zh-TW" sz="1800" spc="-1" strike="noStrike">
                <a:solidFill>
                  <a:srgbClr val="ffff00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4T03:42:26Z</dcterms:created>
  <dc:creator/>
  <dc:description/>
  <dc:language>en-US</dc:language>
  <cp:lastModifiedBy>gary</cp:lastModifiedBy>
  <dcterms:modified xsi:type="dcterms:W3CDTF">2004-08-27T01:36:36Z</dcterms:modified>
  <cp:revision>11</cp:revision>
  <dc:subject/>
  <dc:title>投影片 1</dc:title>
</cp:coreProperties>
</file>