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>
    <p:sldRg st="1" end="3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79701-EDC4-4FED-8FC7-8A5A387027C0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000" spc="-1" strike="noStrike">
                <a:solidFill>
                  <a:srgbClr val="000000"/>
                </a:solidFill>
                <a:latin typeface="Arial"/>
              </a:rPr>
              <a:t>肉食者的頭骨：</a:t>
            </a:r>
            <a:r>
              <a:rPr b="0" lang="zh-TW" sz="1000" spc="-1" strike="noStrike">
                <a:solidFill>
                  <a:srgbClr val="000000"/>
                </a:solidFill>
                <a:latin typeface="Arial"/>
              </a:rPr>
              <a:t>頭部上下顎比其他類動物短，這種構造讓咬合更有力，也因此頭顱外形較圓，與狗或熊頭骨口鼻部突出狀截然不同。貓科動物都是純粹的肉食者，牠的消化系統簡單，腸道很短，只適合消化肉類，甚少攝取昆蟲或植物等臉譜，每隻老虎都不一樣：老虎的臉，斑紋鮮豔而複雜，看起來威風異常。額頭的斑紋形似個「王」字，難怪虎皮在華人世界又象徵權勢。由於每隻老虎臉部的斑紋都不相同，就像人類指紋一樣，調查人員可用來辨認不同個體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000" spc="-1" strike="noStrike">
                <a:solidFill>
                  <a:srgbClr val="000000"/>
                </a:solidFill>
                <a:latin typeface="Arial"/>
              </a:rPr>
              <a:t>牙齒：</a:t>
            </a:r>
            <a:r>
              <a:rPr b="0" lang="zh-TW" sz="1000" spc="-1" strike="noStrike">
                <a:solidFill>
                  <a:srgbClr val="000000"/>
                </a:solidFill>
                <a:latin typeface="Arial"/>
              </a:rPr>
              <a:t>貓科動物的顎骨短，牙齒數目不多，僅</a:t>
            </a:r>
            <a:r>
              <a:rPr b="0" lang="zh-TW" sz="1000" spc="-1" strike="noStrike">
                <a:solidFill>
                  <a:srgbClr val="000000"/>
                </a:solidFill>
                <a:latin typeface="Arial"/>
              </a:rPr>
              <a:t>28-30</a:t>
            </a:r>
            <a:r>
              <a:rPr b="0" lang="zh-TW" sz="1000" spc="-1" strike="noStrike">
                <a:solidFill>
                  <a:srgbClr val="000000"/>
                </a:solidFill>
                <a:latin typeface="Arial"/>
              </a:rPr>
              <a:t>顆，但每顆都很銳利，便於切割肉類。其中，老虎的犬齒狀如匕首，是肉食動物中最長的。特別注意犬齒與臼齒間出現的大縫隙，如此在攻擊時，犬齒便能咬得更深，就連臼齒也尖銳鋒利，可切開皮肉。最特殊的是門齒，排成一直線，像一把刮刀，可刮下骨頭表面黏附的殘肉。肉塊到了嘴裡會全數吞下，並不咀嚼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000" spc="-1" strike="noStrike">
                <a:solidFill>
                  <a:srgbClr val="000000"/>
                </a:solidFill>
                <a:latin typeface="Arial"/>
              </a:rPr>
              <a:t>發光夜視眼：</a:t>
            </a:r>
            <a:r>
              <a:rPr b="0" lang="zh-TW" sz="1000" spc="-1" strike="noStrike">
                <a:solidFill>
                  <a:srgbClr val="000000"/>
                </a:solidFill>
                <a:latin typeface="Arial"/>
              </a:rPr>
              <a:t>貓科動物和許多夜行的動物例如狼、犬、飛鼠等，眼底網膜後方都多了一層特殊膜層，稱為視毯，能夠將進入的光線反射增強；老虎的夜間視力是人類的</a:t>
            </a:r>
            <a:r>
              <a:rPr b="0" lang="zh-TW" sz="1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1000" spc="-1" strike="noStrike">
                <a:solidFill>
                  <a:srgbClr val="000000"/>
                </a:solidFill>
                <a:latin typeface="Arial"/>
              </a:rPr>
              <a:t>倍，這也是為甚麼黑暗中牠們的眼睛看起來好像會發光一樣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000" spc="-1" strike="noStrike">
                <a:solidFill>
                  <a:srgbClr val="000000"/>
                </a:solidFill>
                <a:latin typeface="Arial"/>
              </a:rPr>
              <a:t>耳朵：</a:t>
            </a:r>
            <a:r>
              <a:rPr b="0" lang="zh-TW" sz="1000" spc="-1" strike="noStrike">
                <a:solidFill>
                  <a:srgbClr val="000000"/>
                </a:solidFill>
                <a:latin typeface="Arial"/>
              </a:rPr>
              <a:t>對高音波很敏感，同時也是傳訊的工具：聽力絕佳，特別是對高頻率音波，可達</a:t>
            </a:r>
            <a:r>
              <a:rPr b="0" lang="zh-TW" sz="1000" spc="-1" strike="noStrike">
                <a:solidFill>
                  <a:srgbClr val="000000"/>
                </a:solidFill>
                <a:latin typeface="Arial"/>
              </a:rPr>
              <a:t>70KHz (</a:t>
            </a:r>
            <a:r>
              <a:rPr b="0" lang="zh-TW" sz="1000" spc="-1" strike="noStrike">
                <a:solidFill>
                  <a:srgbClr val="000000"/>
                </a:solidFill>
                <a:latin typeface="Arial"/>
              </a:rPr>
              <a:t>人類可以聽到</a:t>
            </a:r>
            <a:r>
              <a:rPr b="0" lang="zh-TW" sz="1000" spc="-1" strike="noStrike">
                <a:solidFill>
                  <a:srgbClr val="000000"/>
                </a:solidFill>
                <a:latin typeface="Arial"/>
              </a:rPr>
              <a:t>20KHz</a:t>
            </a:r>
            <a:r>
              <a:rPr b="0" lang="zh-TW" sz="1000" spc="-1" strike="noStrike">
                <a:solidFill>
                  <a:srgbClr val="000000"/>
                </a:solidFill>
                <a:latin typeface="Arial"/>
              </a:rPr>
              <a:t>以下</a:t>
            </a:r>
            <a:r>
              <a:rPr b="0" lang="zh-TW" sz="1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1000" spc="-1" strike="noStrike">
                <a:solidFill>
                  <a:srgbClr val="000000"/>
                </a:solidFill>
                <a:latin typeface="Arial"/>
              </a:rPr>
              <a:t>，兩耳還可隨聲音來源轉向，因此像老鼠發出的細吱叫聲，或鑽動的窸索微響，在牠們聽來是再清楚不過了。隨著心情，耳朵後貼或豎起，許多野生貓科動物耳背有明顯白斑，隨耳朵的轉向而擺動，可以向對手傳達訊息例如“不要過來！”，也可以幫助幼兒在昏暗草叢中辨認媽媽，以便緊緊跟隨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000" spc="-1" strike="noStrike">
                <a:solidFill>
                  <a:srgbClr val="000000"/>
                </a:solidFill>
                <a:latin typeface="Arial"/>
              </a:rPr>
              <a:t>貓科的專利</a:t>
            </a:r>
            <a:r>
              <a:rPr b="0" lang="zh-TW" sz="1000" spc="-1" strike="noStrike">
                <a:solidFill>
                  <a:srgbClr val="000000"/>
                </a:solidFill>
                <a:latin typeface="Arial"/>
              </a:rPr>
              <a:t>：伸縮自如的爪子：貓科動物時常磨爪子，更特別的是每個爪子皆附有一骨質爪鞘，行走或奔跑時爪子縮入鞘裡，避免磨損，所以能永保鋒利。相較之下，熊或犬等動物就沒有爪鞘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000" spc="-1" strike="noStrike">
                <a:solidFill>
                  <a:srgbClr val="000000"/>
                </a:solidFill>
                <a:latin typeface="Arial"/>
              </a:rPr>
              <a:t>保護色：</a:t>
            </a:r>
            <a:r>
              <a:rPr b="0" lang="zh-TW" sz="1000" spc="-1" strike="noStrike">
                <a:solidFill>
                  <a:srgbClr val="000000"/>
                </a:solidFill>
                <a:latin typeface="Arial"/>
              </a:rPr>
              <a:t>－條紋外表是用來掩護的迷彩裝：黃黑相間的鮮亮外表，當殺手豈不是太突出了</a:t>
            </a:r>
            <a:r>
              <a:rPr b="0" lang="zh-TW" sz="10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zh-TW" sz="1000" spc="-1" strike="noStrike">
                <a:solidFill>
                  <a:srgbClr val="000000"/>
                </a:solidFill>
                <a:latin typeface="Arial"/>
              </a:rPr>
              <a:t>一般貓科動物的典型斑紋是斑點，帶有少許條紋，如花豹，但老虎則是以明顯無比的縱紋為主。其實在光線和陰影交錯的密林裡，老虎身上的彩紋正好與黃昏草叢背景融為一體，且縱走的斑紋可以打破身體的輪廓線，讓獵物不易發覺有一個『虎形狀』的動物靠近牠，是很好的保護色呢。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830B-DD45-4867-A240-46952466B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65A5-305D-47CD-9A0E-8277C97A2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479C-72C8-4DDF-9BE7-81AAF101C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0556-537B-4295-90ED-DA9B68EBD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29F3A-9ECC-4AE0-B619-788FB7EFA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693FF-9AD1-481B-9C2A-BD2059B5F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BED72-93B1-4FCD-919A-DFE27719F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C3E1A-4200-419E-BAF4-77408357B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9C37C-B027-4902-986F-43E3E34B2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971A3-6699-4E8D-89A7-CD6A8D91E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5FAC7-6CE9-4333-BFEC-51F6450B1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EE1B-9748-42E5-9EC2-D778E4DA6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303E6-ABCE-4C2A-8CF2-7C87C87C2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E1457-8975-474A-A775-EE027D0A2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39EF8-A55A-4A22-A321-46951062A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A5042-7ED3-4A11-95AD-E3E84B3E6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B4FB9-1BB6-44DE-AE6F-82242275E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B3AA-515D-40BF-9844-81E40AD9B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813F-C219-4D89-8297-48003F444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E78E-100C-4697-8290-7BECF144E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8CC5-F621-4F47-B5CB-CB29C42E0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C775-A9F6-47CA-BB61-25F6ACC06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A2A9-3261-471C-9470-CB451170D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0D4D-0EE7-484D-BBE0-C59309238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B7306-94C1-4424-A425-5D463C283AD3}" type="slidenum">
              <a:rPr b="0" lang="zh-TW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CBF8A-31E7-4244-BAEB-59EEABB0BEF3}" type="slidenum">
              <a:rPr b="0" lang="zh-TW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tmp/home/.config/libreoffice/4/user/gallery/PPDCAT.WAV" TargetMode="External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hyperlink" Target="http://www.chinese.discovery.com/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>
            <a:hlinkClick r:id="rId2"/>
          </p:cNvPr>
          <p:cNvSpPr/>
          <p:nvPr/>
        </p:nvSpPr>
        <p:spPr>
          <a:xfrm>
            <a:off x="3684600" y="4371840"/>
            <a:ext cx="23716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>
            <a:hlinkClick r:id="rId3" action="ppaction://hlinksldjump"/>
          </p:cNvPr>
          <p:cNvSpPr/>
          <p:nvPr/>
        </p:nvSpPr>
        <p:spPr>
          <a:xfrm>
            <a:off x="6013440" y="3598920"/>
            <a:ext cx="3181320" cy="32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187280" y="1052640"/>
            <a:ext cx="6337440" cy="18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Arial"/>
              </a:rPr>
              <a:t>進化</a:t>
            </a:r>
            <a:r>
              <a:rPr b="0" lang="zh-TW" sz="2400" spc="-1" strike="noStrike">
                <a:solidFill>
                  <a:srgbClr val="ffffff"/>
                </a:solidFill>
                <a:latin typeface="Arial"/>
              </a:rPr>
              <a:t>(evolution)</a:t>
            </a:r>
            <a:r>
              <a:rPr b="0" lang="zh-TW" sz="2400" spc="-1" strike="noStrike">
                <a:solidFill>
                  <a:srgbClr val="ffffff"/>
                </a:solidFill>
                <a:latin typeface="Arial"/>
              </a:rPr>
              <a:t>：生物隨著時間轉移而變化的理論，主要為物競天擇的結果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Arial"/>
              </a:rPr>
              <a:t>節目內容：在進化的後期，也就是生物由海洋移居陸地、平原為綠草覆蓋、而動物進化到以草為生後，出現了一種可怕的動物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Arial"/>
              </a:rPr>
              <a:t>貓科的</a:t>
            </a:r>
            <a:r>
              <a:rPr b="0" lang="zh-TW" sz="2400" spc="-1" strike="noStrike">
                <a:solidFill>
                  <a:srgbClr val="ffffff"/>
                </a:solidFill>
                <a:latin typeface="Arial"/>
              </a:rPr>
              <a:t>(feline)</a:t>
            </a:r>
            <a:r>
              <a:rPr b="0" lang="zh-TW" sz="2400" spc="-1" strike="noStrike">
                <a:solidFill>
                  <a:srgbClr val="ffffff"/>
                </a:solidFill>
                <a:latin typeface="Arial"/>
              </a:rPr>
              <a:t>：屬於貓科的。貓科動物包括獅、虎、美洲豹、及野生和人類飼養的貓。</a:t>
            </a:r>
            <a:br>
              <a:rPr sz="2400"/>
            </a:br>
            <a:r>
              <a:rPr b="0" lang="zh-TW" sz="2400" spc="-1" strike="noStrike">
                <a:solidFill>
                  <a:srgbClr val="ffffff"/>
                </a:solidFill>
                <a:latin typeface="Arial"/>
              </a:rPr>
              <a:t>節目內容：</a:t>
            </a:r>
            <a:r>
              <a:rPr b="0" lang="zh-TW" sz="1800" spc="-1" strike="noStrike">
                <a:solidFill>
                  <a:srgbClr val="ffff00"/>
                </a:solidFill>
                <a:latin typeface="Arial"/>
              </a:rPr>
              <a:t>【</a:t>
            </a:r>
            <a:r>
              <a:rPr b="0" lang="zh-TW" sz="2400" spc="-1" strike="noStrike">
                <a:solidFill>
                  <a:srgbClr val="ffff00"/>
                </a:solidFill>
                <a:latin typeface="Arial"/>
              </a:rPr>
              <a:t>貓科殺手的特徵有哪些？</a:t>
            </a:r>
            <a:r>
              <a:rPr b="0" lang="zh-TW" sz="1800" spc="-1" strike="noStrike">
                <a:solidFill>
                  <a:srgbClr val="ffff00"/>
                </a:solidFill>
                <a:latin typeface="Arial"/>
              </a:rPr>
              <a:t>】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3633840" y="5084640"/>
            <a:ext cx="2440080" cy="1828800"/>
          </a:xfrm>
          <a:prstGeom prst="rect">
            <a:avLst/>
          </a:prstGeom>
          <a:ln w="0">
            <a:noFill/>
          </a:ln>
        </p:spPr>
      </p:pic>
      <p:sp>
        <p:nvSpPr>
          <p:cNvPr id="108" name="">
            <a:hlinkClick r:id="rId3"/>
          </p:cNvPr>
          <p:cNvSpPr/>
          <p:nvPr/>
        </p:nvSpPr>
        <p:spPr>
          <a:xfrm>
            <a:off x="611280" y="476280"/>
            <a:ext cx="4395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" dur="7067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12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5" dur="1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 advTm="5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4T03:42:26Z</dcterms:created>
  <dc:creator>陳美玲</dc:creator>
  <dc:description/>
  <dc:language>en-US</dc:language>
  <cp:lastModifiedBy>sammi_tsai</cp:lastModifiedBy>
  <dcterms:modified xsi:type="dcterms:W3CDTF">2005-11-11T02:39:36Z</dcterms:modified>
  <cp:revision>16</cp:revision>
  <dc:subject/>
  <dc:title>投影片 1</dc:title>
</cp:coreProperties>
</file>