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088-0A76-4FE0-A0E7-1D453127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0560" y="39571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5E7-AC3A-4E25-A370-DAB80067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3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BE6-1283-41D1-A9F8-7D1D4604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37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569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05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37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569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EE2-9FAE-4E50-8BF2-8A456CD0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7182-CBD1-4E06-81AE-DCA92EE2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BDAE-9FB7-4DB8-885E-FA1E427F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D623-ADF8-42B1-9950-DA9C2BD0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5971-ACFC-4BDB-BB3C-9C35DE0F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7B2E-4ABB-4561-98AF-6533A02D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712F-F68D-4029-A936-DB893CE7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4387-F95A-4DCF-9DD3-4CA02A6B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EBA-5891-4B01-88A9-7106E81A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73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6154-6608-4DEF-81D8-4A97ABB6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A4E1-E308-4E5B-A0B7-F25E94F9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50560" y="39571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F0DA-A3BF-4413-8A23-663E07A4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73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3676-FABC-4A21-9552-8B558539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37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569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505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037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569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0385-D48E-4536-BAE1-DC1E9F2C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67B-F0C4-46B6-9A8A-23502371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058-19C1-465D-8D30-B0DED98D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A9E-5AAC-41A4-9DD8-FD8BEF5F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83C-8B71-4940-8EBE-785B0D97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908-3F5D-4AA7-A5E6-BDE10EBE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3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510-0536-4244-B030-51578CDA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E90-81D5-4D6E-A342-6D116F1B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27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512640" indent="-196920">
              <a:spcBef>
                <a:spcPts val="270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2" marL="788400" indent="-157680">
              <a:spcBef>
                <a:spcPts val="27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3" marL="1104120" indent="-157680">
              <a:spcBef>
                <a:spcPts val="27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4" marL="1419480" indent="-157680">
              <a:spcBef>
                <a:spcPts val="2701"/>
              </a:spcBef>
              <a:buClr>
                <a:srgbClr val="8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5" marL="1419480" indent="-157680">
              <a:spcBef>
                <a:spcPts val="27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6" marL="1419480" indent="-157680">
              <a:spcBef>
                <a:spcPts val="27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912C-363E-4304-9514-6C57FB667426}" type="slidenum"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51CE-F2C6-41F6-8DA5-12D9B82246FB}" type="slidenum"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2" marL="914400" algn="ctr">
              <a:spcBef>
                <a:spcPts val="1950"/>
              </a:spcBef>
              <a:buClr>
                <a:srgbClr val="8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800000"/>
              </a:solidFill>
              <a:latin typeface="Times New Roman"/>
            </a:endParaRPr>
          </a:p>
          <a:p>
            <a:pPr lvl="3" marL="1371600" algn="ctr">
              <a:spcBef>
                <a:spcPts val="1800"/>
              </a:spcBef>
              <a:buClr>
                <a:srgbClr val="8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4" marL="1828800" algn="ctr">
              <a:spcBef>
                <a:spcPts val="1650"/>
              </a:spcBef>
              <a:buClr>
                <a:srgbClr val="8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  <a:p>
            <a:pPr lvl="5" marL="1828800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  <a:p>
            <a:pPr lvl="6" marL="1828800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00"/>
                </a:solidFill>
                <a:latin typeface="Times New Roman"/>
              </a:rPr>
              <a:t>中國傳統節慶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SF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中 國 傳 統 節 日 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44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春 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元宵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清明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端午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90800" y="1699920"/>
            <a:ext cx="2544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中元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中秋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冬 至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除 夕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00"/>
                </a:solidFill>
                <a:latin typeface="Times New Roman"/>
              </a:rPr>
              <a:t>春　節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SF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春　　節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7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</a:rPr>
              <a:t>爆竹聲中一歲除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spcBef>
                <a:spcPts val="27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</a:rPr>
              <a:t>春節的習俗與傳說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貼春聯 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貼年畫 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放鞭炮、燃焰火 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舞龍 、舞獅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00"/>
                </a:solidFill>
                <a:latin typeface="新細明體"/>
              </a:rPr>
              <a:t>元　宵　節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SF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新細明體"/>
              </a:rPr>
              <a:t>元　宵　節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2701"/>
              </a:spcBef>
              <a:buClr>
                <a:srgbClr val="0000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新細明體"/>
              </a:rPr>
              <a:t>東風夜放花千歲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2701"/>
              </a:spcBef>
              <a:buClr>
                <a:srgbClr val="0000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新細明體"/>
              </a:rPr>
              <a:t>元宵節的習俗與傳說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新細明體"/>
              </a:rPr>
              <a:t>張燈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新細明體"/>
              </a:rPr>
              <a:t>猜燈謎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新細明體"/>
              </a:rPr>
              <a:t>吃元宵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新細明體"/>
              </a:rPr>
              <a:t>鬧社火 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00"/>
                </a:solidFill>
                <a:latin typeface="新細明體"/>
              </a:rPr>
              <a:t>端　午　節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SF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端　午　節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7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</a:rPr>
              <a:t>龍舟競渡悼中魂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spcBef>
                <a:spcPts val="27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</a:rPr>
              <a:t>端午節的習俗與傳說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賽龍舟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吃粽子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插艾枝、掛昌蒲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飲雄黃酒、佩香包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02:30:45Z</dcterms:created>
  <dc:creator>陳美玲</dc:creator>
  <dc:description/>
  <dc:language>en-US</dc:language>
  <cp:lastModifiedBy>sammi_tsai</cp:lastModifiedBy>
  <dcterms:modified xsi:type="dcterms:W3CDTF">2005-11-08T08:35:22Z</dcterms:modified>
  <cp:revision>18</cp:revision>
  <dc:subject/>
  <dc:title>中國傳統節慶</dc:title>
</cp:coreProperties>
</file>