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Click to move the slide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068-EA2A-43BA-B6A4-0E2EDAB85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A938-ABC6-4C03-BE8C-721C3F3AD9C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39D-51DA-47ED-8B19-0869D4847C8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4AC7-5F28-4AB0-A58D-7DFDADD021E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1893-B6E0-4E7E-AF8E-CD0013E8A95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8397-21E1-4A59-81CA-5DF52012E3A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8F0C-5739-4424-A44D-99E29647A69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0579-B4CB-46FB-BA24-17DFFC26829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FFB-C1C3-4B21-A052-702AF2F1FC2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F19D-06D3-4739-865D-A9CE9C9054A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70D3-43F5-4D3E-9D58-738E38E57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7C36-4344-48E8-8EFC-5AC28BC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DCFD-F14E-4B2E-BD18-890C115A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168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62692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6720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7168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9BAC-7461-40AB-A276-1C96D8B78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BB93D-D04C-4B7C-B05A-FA4AD289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3ED78-44C2-405A-89BF-26AB07FB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9FC27-F8BE-4667-A631-73A6EBFB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2C44F-2EBE-443E-88AA-A08FEC56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5C0FA-0D3C-46D3-9A54-11CF1413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20E6-B034-4903-87CE-EB3B1766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C701-4359-4CBE-BFB2-090C6327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3FA0-5DF8-4A0E-B46E-BF8F60D2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58621-00C2-4E8E-A284-06B78FA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AE0F-1B0E-4933-9EC5-6988069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E0EE3-B7DC-4EEC-90CB-097EEC9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ED8E8-6543-431D-B0A5-31C11455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168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2692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720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168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CBCE1-1C66-4B37-BE0F-C6B8228D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A42B-2A8A-47C3-A1AD-F2FC13A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BC76-3F19-4D05-BFC3-1E483636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2CFC-0006-4BDA-9980-1D43BB8F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756D-21BD-4C86-98B5-FC481A14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5A9B-4802-426A-A2CD-E8A7266B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3FAA-D8A2-40F3-B860-D5CB60B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1151-6306-47B9-98E0-1D5ADFCA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3.xml"/><Relationship Id="rId11" Type="http://schemas.openxmlformats.org/officeDocument/2006/relationships/image" Target="../media/image7.png"/><Relationship Id="rId12" Type="http://schemas.openxmlformats.org/officeDocument/2006/relationships/slide" Target="slide5.xml"/><Relationship Id="rId13" Type="http://schemas.openxmlformats.org/officeDocument/2006/relationships/image" Target="../media/image8.png"/><Relationship Id="rId14" Type="http://schemas.openxmlformats.org/officeDocument/2006/relationships/slide" Target="slide6.xml"/><Relationship Id="rId15" Type="http://schemas.openxmlformats.org/officeDocument/2006/relationships/image" Target="../media/image9.png"/><Relationship Id="rId16" Type="http://schemas.openxmlformats.org/officeDocument/2006/relationships/slide" Target="slide7.xml"/><Relationship Id="rId17" Type="http://schemas.openxmlformats.org/officeDocument/2006/relationships/image" Target="../media/image10.png"/><Relationship Id="rId18" Type="http://schemas.openxmlformats.org/officeDocument/2006/relationships/slide" Target="slide8.xm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2880" t="0" r="0" b="0"/>
          <a:stretch/>
        </p:blipFill>
        <p:spPr>
          <a:xfrm>
            <a:off x="0" y="6265800"/>
            <a:ext cx="6048360" cy="6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4"/>
          <a:srcRect l="81426" t="13187" r="1190" b="12000"/>
          <a:stretch/>
        </p:blipFill>
        <p:spPr>
          <a:xfrm>
            <a:off x="7885080" y="6264360"/>
            <a:ext cx="1268280" cy="62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104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360" y="404280"/>
            <a:ext cx="97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7B86-0481-49B7-ADAD-784E3FDEE2FE}" type="datetime">
              <a:rPr b="1" lang="zh-TW" sz="1200" spc="-1" strike="noStrike">
                <a:solidFill>
                  <a:srgbClr val="ffffff"/>
                </a:solidFill>
                <a:latin typeface="Arial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712000" y="404280"/>
            <a:ext cx="43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DA4-A2AD-4046-8651-6B152963E9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8508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3372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152360" y="6264360"/>
            <a:ext cx="981360" cy="6192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035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07340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4504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014880" y="626436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46836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7301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5456" y="3848"/>
                </a:lnTo>
                <a:lnTo>
                  <a:pt x="5456" y="17861"/>
                </a:lnTo>
                <a:lnTo>
                  <a:pt x="3794" y="178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">
            <a:hlinkClick r:id="" action="ppaction://hlinkshowjump?jump=lastslide"/>
          </p:cNvPr>
          <p:cNvSpPr/>
          <p:nvPr/>
        </p:nvSpPr>
        <p:spPr>
          <a:xfrm>
            <a:off x="8459640" y="645336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4312" y="10800"/>
                </a:moveTo>
                <a:lnTo>
                  <a:pt x="3807" y="17806"/>
                </a:lnTo>
                <a:lnTo>
                  <a:pt x="3807" y="3794"/>
                </a:lnTo>
                <a:close/>
              </a:path>
              <a:path fill="darken" w="21627" h="21600">
                <a:moveTo>
                  <a:pt x="16158" y="3794"/>
                </a:moveTo>
                <a:lnTo>
                  <a:pt x="16158" y="17806"/>
                </a:lnTo>
                <a:lnTo>
                  <a:pt x="17820" y="17806"/>
                </a:lnTo>
                <a:lnTo>
                  <a:pt x="17820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A2C0-2977-4B0C-92C5-85701BCEC332}" type="datetime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115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344-8026-46A0-ADD5-B6DC63BCC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800080"/>
                </a:solidFill>
                <a:latin typeface="Times New Roman"/>
              </a:rPr>
              <a:t>資訊月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3" name="Picture 11" descr="LOGO"/>
          <p:cNvPicPr/>
          <p:nvPr/>
        </p:nvPicPr>
        <p:blipFill>
          <a:blip r:embed="rId2"/>
          <a:stretch/>
        </p:blipFill>
        <p:spPr>
          <a:xfrm>
            <a:off x="1476360" y="119700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LOGO"/>
          <p:cNvPicPr/>
          <p:nvPr/>
        </p:nvPicPr>
        <p:blipFill>
          <a:blip r:embed="rId2"/>
          <a:stretch/>
        </p:blipFill>
        <p:spPr>
          <a:xfrm>
            <a:off x="1403280" y="148428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1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3832200" cy="110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台 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03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0/12/11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台 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16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0/12/21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高雄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30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1/01/04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9" name="Picture 22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374328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資訊月主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科技觸動我心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9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擁抱智慧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8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邁向智慧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7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移動科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‧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隨心所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6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愛上數位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5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擁抱數位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4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創意、關懷、迎向未來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>
            <a:hlinkClick r:id="rId9" action="ppaction://hlinksldjump"/>
          </p:cNvPr>
          <p:cNvSpPr/>
          <p:nvPr/>
        </p:nvSpPr>
        <p:spPr>
          <a:xfrm>
            <a:off x="684360" y="1341360"/>
            <a:ext cx="50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>
            <a:hlinkClick r:id="rId10" action="ppaction://hlinksldjump"/>
          </p:cNvPr>
          <p:cNvSpPr/>
          <p:nvPr/>
        </p:nvSpPr>
        <p:spPr>
          <a:xfrm>
            <a:off x="684360" y="206064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684360" y="270828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684360" y="3357720"/>
            <a:ext cx="597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07664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797360"/>
            <a:ext cx="50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445000"/>
            <a:ext cx="626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A6ED-8AFD-461F-BF82-491A2BA893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E4BA6-FB4D-42F0-9233-24C2FEFDA723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00 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科技觸動我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圖片 3" descr=""/>
          <p:cNvPicPr/>
          <p:nvPr/>
        </p:nvPicPr>
        <p:blipFill>
          <a:blip r:embed="rId4"/>
          <a:stretch/>
        </p:blipFill>
        <p:spPr>
          <a:xfrm>
            <a:off x="6372360" y="2565360"/>
            <a:ext cx="10000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2FF3-32EB-4306-8349-48401D25AD5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0FC70-6BD3-4EC6-A329-B3CDA38EF432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9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擁抱智慧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即時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簡便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享受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雲端科技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智慧生活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生活體驗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生活應用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18" name="Picture 11" descr="99資訊月 擁抱智慧生活"/>
          <p:cNvPicPr/>
          <p:nvPr/>
        </p:nvPicPr>
        <p:blipFill>
          <a:blip r:embed="rId4"/>
          <a:stretch/>
        </p:blipFill>
        <p:spPr>
          <a:xfrm>
            <a:off x="4716360" y="1916280"/>
            <a:ext cx="2795760" cy="39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F8DE-FD1B-4149-81F0-CCC4A00B094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B1727-DADF-4E82-AFCC-6897F9A4A92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8" descr="98資訊月 邁向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8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邁向智慧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觸控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Touch 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輕省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High Performance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即時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Instant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簡單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Simple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未來夢想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觸控科技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3DF4-DEC3-409D-BBE1-3AE76036F8A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D6E22-8115-4F91-B139-6E75565459F1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97資訊月 移動科技‧隨心所欲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7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移動科技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‧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隨心所欲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科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隨心所欲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世界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美學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風尚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生活體驗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享樂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微型頭影世界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影音遊樂園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3663-CC07-420A-A963-CB17A4E599D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665BB-5807-49D3-B68B-C2E778A4A30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96資訊月 愛上數位生活 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愛上數位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愛上數位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便利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娛樂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品味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1227-ECA1-41DB-B9A7-01026016AD3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BAAC0-BCE3-4257-8142-C993D59E1C73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5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擁抱數位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擁抱數位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MD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sus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Garmin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Nokia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ony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Tivo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其他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31" name="Picture 18" descr="95資訊月 擁抱數位生活"/>
          <p:cNvPicPr/>
          <p:nvPr/>
        </p:nvPicPr>
        <p:blipFill>
          <a:blip r:embed="rId4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6538-39E6-4F75-8697-51A49DCBACB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C32F9-C3B9-40E4-91AE-5E62C25A9607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94資訊月 創意、關懷、迎向未來"/>
          <p:cNvPicPr/>
          <p:nvPr/>
        </p:nvPicPr>
        <p:blipFill>
          <a:blip r:embed="rId2"/>
          <a:stretch/>
        </p:blipFill>
        <p:spPr>
          <a:xfrm>
            <a:off x="4716360" y="1916280"/>
            <a:ext cx="2759040" cy="388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4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資訊月創意、關懷、迎向未來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創意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關懷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迎向未來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影像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立體顯像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家庭娛樂中心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享樂城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科技環保風 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26A3-8F76-4B92-8ADF-30D1AB7BA3A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776EA-D99B-47A9-85D4-582F2A082C4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1:23:11Z</dcterms:created>
  <dc:creator/>
  <dc:description/>
  <dc:language>en-US</dc:language>
  <cp:lastModifiedBy/>
  <dcterms:modified xsi:type="dcterms:W3CDTF">2011-09-03T14:28:46Z</dcterms:modified>
  <cp:revision>49</cp:revision>
  <dc:subject/>
  <dc:title>訓練新員工</dc:title>
</cp:coreProperties>
</file>