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9A45-F2E0-4ACF-B5DA-51023F73A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83A6-E655-444B-87BC-15153A64863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F7DC-37C0-45BF-960C-D906E3416B0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97E0-2B3D-4AA7-9C62-031D355B220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897-83F3-4341-8D17-64419B6A4D4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1429-9647-4CF9-8555-2C5FCD1B79A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4483-024D-4CE0-B413-7A35B0B59F5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29C-735F-4FFC-9749-A67469AFAF3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845C-5185-402A-947E-B117EAF9A3D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84D4-7369-458A-867B-1901A7E42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FEFB-2082-496D-A4EE-67B85A61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DE09-FFE3-4876-B587-4DD0205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6980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1092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6980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B9F1-7B87-4CB0-8FEC-66796569E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49615-3731-4AFC-A186-993269D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9C78A-514F-462E-A983-2C8123F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F5FA-DECF-42DB-885C-3B0006F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BF765-C2F8-4ED9-BFD8-8CE8A2C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36FE6-7749-4487-8002-C42D578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4760" y="311760"/>
            <a:ext cx="745128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F80C-06DD-42CF-B38D-8A7A2E4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501D0-5B88-499A-8B3E-9903E33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C8E7-43E7-4F97-A030-571B002B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B99BC-FB36-472B-8D0B-977CDA7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C226C-9453-4F59-A5B1-C45E185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C07F-A980-4F92-88F9-48B9089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68F45-25D0-46A0-A8AE-1C8A3332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036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980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092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036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980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60A33-216F-4930-883B-83076AF8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FAFF-1317-4106-A52E-2FE1969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ABE8-486A-4170-97FB-BD0FE556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C158-F0FF-44C1-A85B-6E699BFA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94760" y="311760"/>
            <a:ext cx="745128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54C3-6B0B-401E-89BB-0597C641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644A-E848-4D32-BBA1-69B3D93F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C6EB-B612-45F2-AE71-FBF71E1E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25BE-A02B-4A1A-B2DB-6858F2C7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2880" t="0" r="0" b="0"/>
          <a:stretch/>
        </p:blipFill>
        <p:spPr>
          <a:xfrm>
            <a:off x="0" y="6265800"/>
            <a:ext cx="6048360" cy="6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4"/>
          <a:srcRect l="81426" t="13187" r="1190" b="12000"/>
          <a:stretch/>
        </p:blipFill>
        <p:spPr>
          <a:xfrm>
            <a:off x="7885080" y="6264360"/>
            <a:ext cx="1268280" cy="62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343080" indent="-343080">
              <a:lnSpc>
                <a:spcPct val="130000"/>
              </a:lnSpc>
              <a:spcBef>
                <a:spcPts val="1049"/>
              </a:spcBef>
              <a:buClr>
                <a:srgbClr val="9900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360" y="404280"/>
            <a:ext cx="97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712000" y="404280"/>
            <a:ext cx="43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213372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152360" y="6264360"/>
            <a:ext cx="981360" cy="619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31035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406728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50403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0"/>
          <a:stretch/>
        </p:blipFill>
        <p:spPr>
          <a:xfrm>
            <a:off x="6948360" y="6264360"/>
            <a:ext cx="971640" cy="6206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1"/>
          <a:stretch/>
        </p:blipFill>
        <p:spPr>
          <a:xfrm>
            <a:off x="6014880" y="6264360"/>
            <a:ext cx="97164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85C-1B0F-4FD9-9507-C9D2D707C7FD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E985-776E-4DD9-9CC1-A5A89EC54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資訊月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0" name="Picture 11" descr="LOGO"/>
          <p:cNvPicPr/>
          <p:nvPr/>
        </p:nvPicPr>
        <p:blipFill>
          <a:blip r:embed="rId2"/>
          <a:stretch/>
        </p:blipFill>
        <p:spPr>
          <a:xfrm>
            <a:off x="1476360" y="119700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2FB9-D802-4276-ADCF-D52539A63E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063E1-06C3-4632-91E2-A7490D0280F8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科技觸動我心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自由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貼心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感動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未來生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智慧觸動樂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微型圖書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7play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娛樂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語音生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8160" y="1914480"/>
            <a:ext cx="279072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C7C2-C7B1-4051-889F-4ED331505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1A85-8C70-4B79-9C64-AFC0C68E4EF7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99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擁抱智慧生活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即時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簡便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享受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雲端科技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智慧生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生活體驗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生活應用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6" name="Picture 11" descr="99資訊月 擁抱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95760" cy="39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DEB9-9CF5-45B5-87D2-F548A715835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25CD0-E1C4-42F6-BDFC-3326C4892CB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98資訊月 邁向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8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邁向智慧生活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觸控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Touch 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輕省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High Performance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即時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Instant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簡單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Simple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未來夢想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觸控科技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D9E4-DE02-4E2E-901F-EFC284DB43E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33EC4-2012-461C-9B5E-AE9318AEFF1A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97資訊月 移動科技‧隨心所欲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7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移動科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‧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隨心所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科技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隨心所欲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世界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美學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風尚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生活體驗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享樂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微型頭影世界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影音遊樂園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94F6-F4AC-40DF-87A9-D003F5AB876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23E9C-FE8E-47C8-BBC1-10EFAE95376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96資訊月 愛上數位生活 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6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愛上數位生活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愛上數位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便利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娛樂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品味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F38A-73E7-42B9-A28D-7EA44D4FBA2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7CEF4-EFA3-414F-9CBE-E45021D258CE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5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擁抱數位生活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擁抱數位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MD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sus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Garmin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Nokia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Sony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Tivo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其他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9" name="Picture 18" descr="95資訊月 擁抱數位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B2EB-9DC3-4571-8535-7B4FBF002C0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F8216-4183-44F5-99BE-1941C3D14050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94資訊月 創意、關懷、迎向未來"/>
          <p:cNvPicPr/>
          <p:nvPr/>
        </p:nvPicPr>
        <p:blipFill>
          <a:blip r:embed="rId2"/>
          <a:stretch/>
        </p:blipFill>
        <p:spPr>
          <a:xfrm>
            <a:off x="4716360" y="1916280"/>
            <a:ext cx="2759040" cy="388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4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創意、關懷、迎向未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創意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關懷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迎向未來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影像區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立體顯像區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家庭娛樂中心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行動享樂城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科技環保風 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AFF5-88BD-4F26-9BB3-0FD8FAC22CC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F95D3-5548-4A81-A73F-132B44720AB2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LOGO"/>
          <p:cNvPicPr/>
          <p:nvPr/>
        </p:nvPicPr>
        <p:blipFill>
          <a:blip r:embed="rId2"/>
          <a:stretch/>
        </p:blipFill>
        <p:spPr>
          <a:xfrm>
            <a:off x="1403280" y="148428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1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3832200" cy="110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 北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/12/03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00/12/11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 中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/12/16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00/12/21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高 雄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/12/30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01/01/04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3743280" cy="16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3E46-B0E4-4511-B581-D9EDF1063FF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71418-E3E1-4E02-BA12-C67F0875B00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1:23:11Z</dcterms:created>
  <dc:creator/>
  <dc:description/>
  <dc:language>en-US</dc:language>
  <cp:lastModifiedBy/>
  <dcterms:modified xsi:type="dcterms:W3CDTF">2011-10-28T06:38:28Z</dcterms:modified>
  <cp:revision>53</cp:revision>
  <dc:subject/>
  <dc:title>訓練新員工</dc:title>
</cp:coreProperties>
</file>