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1B6-A8DF-4FC3-B278-0FCEACCA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9BA-842B-4475-9706-86909AE7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D95-1608-4505-8731-8487C926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9A9-A28C-4A31-81F4-9CC78546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494-05F3-49F7-B11D-1E7D4468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746-9029-4AB3-BB6E-9BA44549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29C-899E-4E8D-A341-2C8B8514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993-7522-44BA-929B-9E86FA60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B1A-EC98-49CE-8C7F-B49D679F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299-8BA5-45DA-B11A-06D57B1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F96-7967-42A6-860F-3E67842C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F4B-D303-4038-8ACD-C1664C62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圖片1"/>
          <p:cNvPicPr/>
          <p:nvPr/>
        </p:nvPicPr>
        <p:blipFill>
          <a:blip r:embed="rId3"/>
          <a:stretch/>
        </p:blipFill>
        <p:spPr>
          <a:xfrm>
            <a:off x="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66880" y="6244920"/>
            <a:ext cx="3306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8296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2442-80BB-48C7-82CB-4FF7754F4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716040" y="352440"/>
            <a:ext cx="1852560" cy="1066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"/>
          <p:cNvPicPr/>
          <p:nvPr/>
        </p:nvPicPr>
        <p:blipFill>
          <a:blip r:embed="rId3"/>
          <a:stretch/>
        </p:blipFill>
        <p:spPr>
          <a:xfrm>
            <a:off x="2851200" y="5610240"/>
            <a:ext cx="1822320" cy="105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4"/>
          <a:stretch/>
        </p:blipFill>
        <p:spPr>
          <a:xfrm>
            <a:off x="7753320" y="436716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6200000">
            <a:off x="4092480" y="4627440"/>
            <a:ext cx="187200" cy="196920"/>
          </a:xfrm>
          <a:custGeom>
            <a:avLst/>
            <a:gdLst>
              <a:gd name="textAreaLeft" fmla="*/ 0 w 187200"/>
              <a:gd name="textAreaRight" fmla="*/ 187560 w 1872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241800" y="1046160"/>
            <a:ext cx="1904760" cy="361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351160" y="1054080"/>
            <a:ext cx="1904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1-GIF"/>
          <p:cNvPicPr/>
          <p:nvPr/>
        </p:nvPicPr>
        <p:blipFill>
          <a:blip r:embed="rId2"/>
          <a:stretch/>
        </p:blipFill>
        <p:spPr>
          <a:xfrm>
            <a:off x="2390760" y="1420920"/>
            <a:ext cx="1914480" cy="3595680"/>
          </a:xfrm>
          <a:prstGeom prst="rect">
            <a:avLst/>
          </a:prstGeom>
          <a:ln w="0">
            <a:noFill/>
          </a:ln>
        </p:spPr>
      </p:pic>
      <p:sp>
        <p:nvSpPr>
          <p:cNvPr id="49" name="Oval 14"/>
          <p:cNvSpPr/>
          <p:nvPr/>
        </p:nvSpPr>
        <p:spPr>
          <a:xfrm>
            <a:off x="2913120" y="2152800"/>
            <a:ext cx="108000" cy="10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4937040" y="3992400"/>
            <a:ext cx="369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內建投影功能的觸控式數位相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新細明體"/>
              </a:rPr>
              <a:t>百萬像素，畫質精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2428920"/>
            <a:ext cx="4105440" cy="442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900000">
            <a:off x="4100040" y="1012680"/>
            <a:ext cx="1706760" cy="3241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9"/>
          <p:cNvSpPr/>
          <p:nvPr/>
        </p:nvSpPr>
        <p:spPr>
          <a:xfrm>
            <a:off x="1450800" y="33051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創意</a:t>
            </a:r>
            <a:br>
              <a:rPr sz="1800"/>
            </a:b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手機包膜保護貼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19680" y="685800"/>
            <a:ext cx="2457360" cy="354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736040" y="684360"/>
            <a:ext cx="2457360" cy="3543120"/>
          </a:xfrm>
          <a:prstGeom prst="rect">
            <a:avLst/>
          </a:prstGeom>
          <a:ln w="0">
            <a:noFill/>
          </a:ln>
        </p:spPr>
      </p:pic>
      <p:pic>
        <p:nvPicPr>
          <p:cNvPr id="56" name="圖片 1" descr=""/>
          <p:cNvPicPr/>
          <p:nvPr/>
        </p:nvPicPr>
        <p:blipFill>
          <a:blip r:embed="rId6"/>
          <a:stretch/>
        </p:blipFill>
        <p:spPr>
          <a:xfrm>
            <a:off x="7651800" y="5892840"/>
            <a:ext cx="614160" cy="731880"/>
          </a:xfrm>
          <a:prstGeom prst="rect">
            <a:avLst/>
          </a:prstGeom>
          <a:ln w="0">
            <a:noFill/>
          </a:ln>
        </p:spPr>
      </p:pic>
      <p:pic>
        <p:nvPicPr>
          <p:cNvPr id="57" name="圖片 2" descr=""/>
          <p:cNvPicPr/>
          <p:nvPr/>
        </p:nvPicPr>
        <p:blipFill>
          <a:blip r:embed="rId7"/>
          <a:stretch/>
        </p:blipFill>
        <p:spPr>
          <a:xfrm>
            <a:off x="8480520" y="5899320"/>
            <a:ext cx="615960" cy="731520"/>
          </a:xfrm>
          <a:prstGeom prst="rect">
            <a:avLst/>
          </a:prstGeom>
          <a:ln w="0">
            <a:noFill/>
          </a:ln>
        </p:spPr>
      </p:pic>
      <p:pic>
        <p:nvPicPr>
          <p:cNvPr id="58" name="圖片 3" descr=""/>
          <p:cNvPicPr/>
          <p:nvPr/>
        </p:nvPicPr>
        <p:blipFill>
          <a:blip r:embed="rId8"/>
          <a:stretch/>
        </p:blipFill>
        <p:spPr>
          <a:xfrm>
            <a:off x="9352080" y="5899320"/>
            <a:ext cx="615960" cy="73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8:42:44Z</dcterms:created>
  <dc:creator/>
  <dc:description/>
  <dc:language>en-US</dc:language>
  <cp:lastModifiedBy>MAYLIN</cp:lastModifiedBy>
  <dcterms:modified xsi:type="dcterms:W3CDTF">2011-09-03T00:12:24Z</dcterms:modified>
  <cp:revision>24</cp:revision>
  <dc:subject/>
  <dc:title>投影片 1</dc:title>
</cp:coreProperties>
</file>