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58-F97C-4972-B700-B9DFF391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F8E-5D8D-4BE1-A137-D5F929B6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B0E-F501-4627-9BE5-94A428B4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62E-4ABE-4425-BFDC-BDB515E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364-FB01-4D3C-BB51-47B1FD9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401-8AF3-45D4-AC0D-E6163E3F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B17-2DDA-47C5-978B-C93BF5E5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CF9-E51D-4118-B17C-C4093AB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002-BFA2-444D-8E81-63FE215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BF5-8757-4217-BDF1-86C533F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736-A3B0-449B-A671-AFAE40D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984-5F8F-42A1-B31E-AD248912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4EBF-3F9A-46DE-A354-22864E0B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國傳統節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 國 傳 統 節 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 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宵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明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端午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元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秋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冬 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 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　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爆竹聲中一歲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節的習俗與傳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貼春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貼年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鞭炮、燃焰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舞龍 、舞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元　宵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元　宵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新細明體"/>
              </a:rPr>
              <a:t>東風夜放花千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新細明體"/>
              </a:rPr>
              <a:t>元宵節的習俗與傳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張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猜燈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吃元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鬧社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端　午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端　午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龍舟競渡悼中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端午節的習俗與傳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賽龍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粽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插艾枝、掛昌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飲雄黃酒、佩香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2:30:45Z</dcterms:created>
  <dc:creator/>
  <dc:description/>
  <dc:language>en-US</dc:language>
  <cp:lastModifiedBy>陳美玲</cp:lastModifiedBy>
  <dcterms:modified xsi:type="dcterms:W3CDTF">2001-10-24T09:53:56Z</dcterms:modified>
  <cp:revision>16</cp:revision>
  <dc:subject/>
  <dc:title>中國傳統節慶</dc:title>
</cp:coreProperties>
</file>