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E1BE-CFCC-4346-98E6-BA17FD45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0A7-1535-425E-A305-23B4ADB3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B16-5425-45AC-BEFB-47D49C33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CC7A-97E9-4067-B8CC-1E45F578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7A80-6806-4957-9F5E-2C2A5380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9E4D-0DB8-4B03-8766-E2AC2E72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721F-DD04-4C74-BD98-668F7F93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4986-1632-47C1-85F7-9CE7E1DF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11D8-1325-4DC0-9CE0-E25FDF79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D0B7-F933-4776-8A76-B3A5E50E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4D5A-2271-4C17-9807-9D923244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E55-79AE-4805-87D0-CE72BBE4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3691-1471-42BE-B515-86D83F44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EFB0-8A5B-4975-ADDB-5149F987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2D15-BEDB-44CF-80B9-23A60CB7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E9F8-BAF4-4D96-8A6E-F35BEDE0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9C39-32DD-4593-B0DD-F88F219F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B019-1B70-42E7-9302-4D3D95B3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0DDA-771D-4F3E-AFEE-DE78FEC0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4F1-4E1B-483F-8CA0-6788BCF7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140-ED73-4F20-8406-F6927642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4F74-84FE-4DA6-8086-455AF3C2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769-1775-4154-9207-3A6C0213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6A1-7159-43F8-B5EE-8F01FCE6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59E4-0552-4AE7-B94F-9AC7C74EDD28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E774-EDF6-4518-A844-FF6906E3F3B0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87280" y="1052640"/>
            <a:ext cx="633744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進化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(evolution)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：生物隨著時間轉移而變化的理論，主要為物競天擇的結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節目內容：在進化的後期，也就是生物由海洋移居陸地、平原為綠草覆蓋、而動物進化到以草為生後，出現了一種可怕的動物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貓科的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(feline)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：屬於貓科的。貓科動物包括獅、虎、美洲豹、及野生和人類飼養的貓。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節目內容：</a:t>
            </a:r>
            <a:r>
              <a:rPr b="0" lang="zh-TW" sz="1800" spc="-1" strike="noStrike">
                <a:solidFill>
                  <a:srgbClr val="ffff00"/>
                </a:solidFill>
                <a:latin typeface="Arial"/>
              </a:rPr>
              <a:t>【</a:t>
            </a:r>
            <a:r>
              <a:rPr b="0" lang="zh-TW" sz="2400" spc="-1" strike="noStrike">
                <a:solidFill>
                  <a:srgbClr val="ffff00"/>
                </a:solidFill>
                <a:latin typeface="Arial"/>
              </a:rPr>
              <a:t>貓科殺手的特徵有哪些？</a:t>
            </a:r>
            <a:r>
              <a:rPr b="0" lang="zh-TW" sz="1800" spc="-1" strike="noStrike">
                <a:solidFill>
                  <a:srgbClr val="ffff00"/>
                </a:solidFill>
                <a:latin typeface="Arial"/>
              </a:rPr>
              <a:t>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4T03:42:26Z</dcterms:created>
  <dc:creator/>
  <dc:description/>
  <dc:language>en-US</dc:language>
  <cp:lastModifiedBy>gary</cp:lastModifiedBy>
  <dcterms:modified xsi:type="dcterms:W3CDTF">2004-08-27T01:36:36Z</dcterms:modified>
  <cp:revision>11</cp:revision>
  <dc:subject/>
  <dc:title>投影片 1</dc:title>
</cp:coreProperties>
</file>