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Times New Roman"/>
              </a:rPr>
              <a:t>Click to move the slide</a:t>
            </a: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21EA-CD56-438F-AEFA-A60D5E84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7751-D64B-441C-8A2C-44A9D635587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A6E1-5ED7-4CAB-85E0-57B3FE76907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4CE9-D331-459A-9695-CCE77CDA928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2BAC-56FD-47E2-9A52-7525D6B4A91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5939-9DD0-49A3-9A43-67A1EEB69FC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AF8C-8038-4455-A3D4-CEF4A863006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6958-71DD-4564-B031-FD0E3424199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7EC2-A8AE-499B-8066-CE5603F08F0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C751-4B0C-4FEC-97C8-364361F4505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F6A5-676A-4B5C-A06F-92DEF14F5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1498-A1AC-4B9C-A29A-3249EBFB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7E79-EF85-422D-AD29-5E024C99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0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168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62692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6720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7168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BA86-951D-463B-AA2E-63DAC618A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A7490-3809-4964-B297-B41C1747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BC63E-90B3-4F82-9040-92320979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F745F-BB8C-4957-8938-945DC794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A7431-52AF-4B3C-B340-02C3EBED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B1A9F-9CA3-49AF-800E-DFE34F83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7B016-706C-433C-963F-7CB1527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6B843-D2FE-4EBB-BBC0-031AFFA1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2C88-6087-4F79-8113-4F6DDD35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5B8F4-B294-4A30-9A98-425953A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3E686-A111-4599-9DD4-479968A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A033B-895B-4CF3-B544-B4EF0736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6DD13-26F1-48B2-A51C-1402C24C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0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168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2692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720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7168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E370A-AA2A-440B-9A51-204A2452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C6584-5E6B-4D6E-BB15-69AC4149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CD4F-077C-41EC-A881-4616C607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1B59-2878-4126-BF3A-E8831A34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C0106-3819-4121-8238-E62F4EF8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4B1C-C198-4830-819A-86B79A19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9209-5C58-4FAD-BF4B-36A07012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E2DE-52F3-4865-B045-F636FE4E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4.xml"/><Relationship Id="rId9" Type="http://schemas.openxmlformats.org/officeDocument/2006/relationships/image" Target="../media/image6.png"/><Relationship Id="rId10" Type="http://schemas.openxmlformats.org/officeDocument/2006/relationships/slide" Target="slide3.xml"/><Relationship Id="rId11" Type="http://schemas.openxmlformats.org/officeDocument/2006/relationships/image" Target="../media/image7.png"/><Relationship Id="rId12" Type="http://schemas.openxmlformats.org/officeDocument/2006/relationships/slide" Target="slide5.xml"/><Relationship Id="rId13" Type="http://schemas.openxmlformats.org/officeDocument/2006/relationships/image" Target="../media/image8.png"/><Relationship Id="rId14" Type="http://schemas.openxmlformats.org/officeDocument/2006/relationships/slide" Target="slide6.xml"/><Relationship Id="rId15" Type="http://schemas.openxmlformats.org/officeDocument/2006/relationships/image" Target="../media/image9.png"/><Relationship Id="rId16" Type="http://schemas.openxmlformats.org/officeDocument/2006/relationships/slide" Target="slide7.xml"/><Relationship Id="rId17" Type="http://schemas.openxmlformats.org/officeDocument/2006/relationships/image" Target="../media/image10.png"/><Relationship Id="rId18" Type="http://schemas.openxmlformats.org/officeDocument/2006/relationships/slide" Target="slide8.xm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2880" t="0" r="0" b="0"/>
          <a:stretch/>
        </p:blipFill>
        <p:spPr>
          <a:xfrm>
            <a:off x="0" y="6265800"/>
            <a:ext cx="6048360" cy="6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4"/>
          <a:srcRect l="81426" t="13187" r="1190" b="12000"/>
          <a:stretch/>
        </p:blipFill>
        <p:spPr>
          <a:xfrm>
            <a:off x="7885080" y="6264360"/>
            <a:ext cx="1268280" cy="62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104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-360" y="404280"/>
            <a:ext cx="971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3DBC-75F8-4951-9BAB-F8A48FD6F40F}" type="datetime">
              <a:rPr b="1" lang="zh-TW" sz="1200" spc="-1" strike="noStrike">
                <a:solidFill>
                  <a:srgbClr val="ffffff"/>
                </a:solidFill>
                <a:latin typeface="Arial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712000" y="404280"/>
            <a:ext cx="431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E86D-6ADE-4AB3-BC8F-9B974E31A5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8508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133720" y="6264360"/>
            <a:ext cx="971280" cy="619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152360" y="6264360"/>
            <a:ext cx="981360" cy="6192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10356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07340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4504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014880" y="626436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46836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7301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  <a:path fill="darken" w="21600" h="21708">
                <a:moveTo>
                  <a:pt x="3794" y="3848"/>
                </a:moveTo>
                <a:lnTo>
                  <a:pt x="5456" y="3848"/>
                </a:lnTo>
                <a:lnTo>
                  <a:pt x="5456" y="17861"/>
                </a:lnTo>
                <a:lnTo>
                  <a:pt x="3794" y="178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">
            <a:hlinkClick r:id="" action="ppaction://hlinkshowjump?jump=lastslide"/>
          </p:cNvPr>
          <p:cNvSpPr/>
          <p:nvPr/>
        </p:nvSpPr>
        <p:spPr>
          <a:xfrm>
            <a:off x="8459640" y="645336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4312" y="10800"/>
                </a:moveTo>
                <a:lnTo>
                  <a:pt x="3807" y="17806"/>
                </a:lnTo>
                <a:lnTo>
                  <a:pt x="3807" y="3794"/>
                </a:lnTo>
                <a:close/>
              </a:path>
              <a:path fill="darken" w="21627" h="21600">
                <a:moveTo>
                  <a:pt x="16158" y="3794"/>
                </a:moveTo>
                <a:lnTo>
                  <a:pt x="16158" y="17806"/>
                </a:lnTo>
                <a:lnTo>
                  <a:pt x="17820" y="17806"/>
                </a:lnTo>
                <a:lnTo>
                  <a:pt x="17820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24F3-C008-41DA-8085-2DE491E1596D}" type="datetime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4ED4-1A54-48FB-8B11-00382C372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800080"/>
                </a:solidFill>
                <a:latin typeface="Times New Roman"/>
              </a:rPr>
              <a:t>資訊月</a:t>
            </a: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3" name="Picture 11" descr="LOGO"/>
          <p:cNvPicPr/>
          <p:nvPr/>
        </p:nvPicPr>
        <p:blipFill>
          <a:blip r:embed="rId2"/>
          <a:stretch/>
        </p:blipFill>
        <p:spPr>
          <a:xfrm>
            <a:off x="1476360" y="1197000"/>
            <a:ext cx="143208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LOGO"/>
          <p:cNvPicPr/>
          <p:nvPr/>
        </p:nvPicPr>
        <p:blipFill>
          <a:blip r:embed="rId2"/>
          <a:stretch/>
        </p:blipFill>
        <p:spPr>
          <a:xfrm>
            <a:off x="1403280" y="1484280"/>
            <a:ext cx="1432080" cy="1432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2916360" y="90792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1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3832200" cy="1105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台 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/12/03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~100/12/11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台 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/12/16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~100/12/21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高雄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/12/30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~101/01/04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9" name="Picture 22" descr=""/>
          <p:cNvPicPr/>
          <p:nvPr/>
        </p:nvPicPr>
        <p:blipFill>
          <a:blip r:embed="rId4"/>
          <a:stretch/>
        </p:blipFill>
        <p:spPr>
          <a:xfrm>
            <a:off x="2916360" y="549360"/>
            <a:ext cx="374328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資訊月主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 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科技觸動我心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9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擁抱智慧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8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邁向智慧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7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移動科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‧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隨心所欲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6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愛上數位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5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擁抱數位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4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創意、關懷、迎向未來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>
            <a:hlinkClick r:id="rId9" action="ppaction://hlinksldjump"/>
          </p:cNvPr>
          <p:cNvSpPr/>
          <p:nvPr/>
        </p:nvSpPr>
        <p:spPr>
          <a:xfrm>
            <a:off x="684360" y="1341360"/>
            <a:ext cx="504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>
            <a:hlinkClick r:id="rId10" action="ppaction://hlinksldjump"/>
          </p:cNvPr>
          <p:cNvSpPr/>
          <p:nvPr/>
        </p:nvSpPr>
        <p:spPr>
          <a:xfrm>
            <a:off x="684360" y="2060640"/>
            <a:ext cx="50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>
            <a:hlinkClick r:id="rId11" action="ppaction://hlinksldjump"/>
          </p:cNvPr>
          <p:cNvSpPr/>
          <p:nvPr/>
        </p:nvSpPr>
        <p:spPr>
          <a:xfrm>
            <a:off x="684360" y="2708280"/>
            <a:ext cx="50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>
            <a:hlinkClick r:id="rId12" action="ppaction://hlinksldjump"/>
          </p:cNvPr>
          <p:cNvSpPr/>
          <p:nvPr/>
        </p:nvSpPr>
        <p:spPr>
          <a:xfrm>
            <a:off x="684360" y="3357720"/>
            <a:ext cx="597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076640"/>
            <a:ext cx="50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797360"/>
            <a:ext cx="504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445000"/>
            <a:ext cx="626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D22BE-C430-4213-9D8B-12103DC84C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8B72A-F023-4622-8636-11E4F6D022C4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00 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科技觸動我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圖片 3" descr=""/>
          <p:cNvPicPr/>
          <p:nvPr/>
        </p:nvPicPr>
        <p:blipFill>
          <a:blip r:embed="rId4"/>
          <a:stretch/>
        </p:blipFill>
        <p:spPr>
          <a:xfrm>
            <a:off x="6372360" y="2565360"/>
            <a:ext cx="10000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78DB-4065-4F40-B2CB-A7C9086EA7A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B696E-B5AE-4B1C-B511-2721B83389B6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9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擁抱智慧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即時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簡便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享受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雲端科技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精采創新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智慧生活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行動生活體驗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生活應用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18" name="Picture 11" descr="99資訊月 擁抱智慧生活"/>
          <p:cNvPicPr/>
          <p:nvPr/>
        </p:nvPicPr>
        <p:blipFill>
          <a:blip r:embed="rId4"/>
          <a:stretch/>
        </p:blipFill>
        <p:spPr>
          <a:xfrm>
            <a:off x="4716360" y="1916280"/>
            <a:ext cx="2795760" cy="39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B8EE-6F4D-4FB2-A1BC-B4F8DDD34BB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B38DA-983A-4380-B2A9-56D2000DC365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8" descr="98資訊月 邁向智慧生活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8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邁向智慧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觸控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Touch 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輕省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High Performance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即時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Instant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簡單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Simple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精采創新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未來夢想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觸控科技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C6ED-D596-4150-A7CC-02B28FA07D2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D40B8-EFD6-40B6-AB73-A72D2E4B7800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97資訊月 移動科技‧隨心所欲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916360" y="90792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7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移動科技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‧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隨心所欲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科技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隨心所欲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世界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美學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風尚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生活體驗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行動享樂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微型頭影世界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影音遊樂園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BA27-3BEE-46E8-B3D6-1F27FEC092E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84FE4-C90A-4182-9756-0E9286AEFF52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2" descr="96資訊月 愛上數位生活 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6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愛上數位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愛上數位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便利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娛樂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品味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2839-9E19-4583-ADDA-1DAF19FDECC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51DCC-11C7-4527-8AFD-86F91AEDD76A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5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擁抱數位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擁抱數位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MD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sus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Garmin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Nokia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ony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Tivo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其他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31" name="Picture 18" descr="95資訊月 擁抱數位生活"/>
          <p:cNvPicPr/>
          <p:nvPr/>
        </p:nvPicPr>
        <p:blipFill>
          <a:blip r:embed="rId4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E546-2C4A-4B01-82E1-2A1BEE30CD9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510E1-F60E-4C40-AFF7-22A70FC05CFE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94資訊月 創意、關懷、迎向未來"/>
          <p:cNvPicPr/>
          <p:nvPr/>
        </p:nvPicPr>
        <p:blipFill>
          <a:blip r:embed="rId2"/>
          <a:stretch/>
        </p:blipFill>
        <p:spPr>
          <a:xfrm>
            <a:off x="4716360" y="1916280"/>
            <a:ext cx="2759040" cy="3889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4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資訊月創意、關懷、迎向未來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創意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關懷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迎向未來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影像區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立體顯像區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家庭娛樂中心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行動享樂城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科技環保風 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6862E-C27A-4F06-B581-D5D9F290EA5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88DA5-D897-4519-A126-9E54513D3909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01:23:11Z</dcterms:created>
  <dc:creator/>
  <dc:description/>
  <dc:language>en-US</dc:language>
  <cp:lastModifiedBy/>
  <dcterms:modified xsi:type="dcterms:W3CDTF">2011-09-03T14:28:46Z</dcterms:modified>
  <cp:revision>49</cp:revision>
  <dc:subject/>
  <dc:title>訓練新員工</dc:title>
</cp:coreProperties>
</file>