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CA4-F325-4F78-84AE-01E6FAB3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8B5-3301-48B1-9079-023FF1BF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D40-7322-49DC-AC88-5D9DB2F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9E2-1A4C-426F-9D9C-53C3625D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729-A0A4-4697-B999-D850818C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EBD-EB12-41FF-A4EA-E2274D4B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9DD-B0E6-4A9E-AD60-EDA7AFE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3D1-5318-40BD-A7A0-EE46848D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3DB-20E0-4344-A9DE-1897BD60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FC3-E991-451C-9248-7460EA8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1A2-4152-45A5-A8D1-458E121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483-0D57-45A7-9C73-D3F26F4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圖片1"/>
          <p:cNvPicPr/>
          <p:nvPr/>
        </p:nvPicPr>
        <p:blipFill>
          <a:blip r:embed="rId3"/>
          <a:stretch/>
        </p:blipFill>
        <p:spPr>
          <a:xfrm>
            <a:off x="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6880" y="6244920"/>
            <a:ext cx="330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CC9-BFAC-4ACC-B370-FE08D0BCA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51160" y="1054080"/>
            <a:ext cx="1904760" cy="36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"/>
          <p:cNvPicPr/>
          <p:nvPr/>
        </p:nvPicPr>
        <p:blipFill>
          <a:blip r:embed="rId3"/>
          <a:stretch/>
        </p:blipFill>
        <p:spPr>
          <a:xfrm>
            <a:off x="716040" y="352440"/>
            <a:ext cx="1852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"/>
          <p:cNvPicPr/>
          <p:nvPr/>
        </p:nvPicPr>
        <p:blipFill>
          <a:blip r:embed="rId4"/>
          <a:stretch/>
        </p:blipFill>
        <p:spPr>
          <a:xfrm>
            <a:off x="2851200" y="5610240"/>
            <a:ext cx="1822320" cy="10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"/>
          <p:cNvPicPr/>
          <p:nvPr/>
        </p:nvPicPr>
        <p:blipFill>
          <a:blip r:embed="rId5"/>
          <a:stretch/>
        </p:blipFill>
        <p:spPr>
          <a:xfrm>
            <a:off x="7753320" y="436716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6200000">
            <a:off x="4092480" y="4627440"/>
            <a:ext cx="187200" cy="196920"/>
          </a:xfrm>
          <a:custGeom>
            <a:avLst/>
            <a:gdLst>
              <a:gd name="textAreaLeft" fmla="*/ 0 w 187200"/>
              <a:gd name="textAreaRight" fmla="*/ 187560 w 187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rcRect l="0" t="0" r="0" b="-99473"/>
          <a:stretch/>
        </p:blipFill>
        <p:spPr>
          <a:xfrm>
            <a:off x="3241800" y="1046160"/>
            <a:ext cx="1904760" cy="7219800"/>
          </a:xfrm>
          <a:prstGeom prst="rect">
            <a:avLst/>
          </a:prstGeom>
          <a:ln w="0">
            <a:noFill/>
          </a:ln>
        </p:spPr>
      </p:pic>
      <p:sp>
        <p:nvSpPr>
          <p:cNvPr id="48" name="WordArt 12"/>
          <p:cNvSpPr txBox="1"/>
          <p:nvPr/>
        </p:nvSpPr>
        <p:spPr>
          <a:xfrm rot="18499800">
            <a:off x="6118920" y="1737000"/>
            <a:ext cx="387972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mart Phon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-GIF"/>
          <p:cNvPicPr/>
          <p:nvPr/>
        </p:nvPicPr>
        <p:blipFill>
          <a:blip r:embed="rId2"/>
          <a:stretch/>
        </p:blipFill>
        <p:spPr>
          <a:xfrm>
            <a:off x="2390760" y="1420920"/>
            <a:ext cx="1914480" cy="3595680"/>
          </a:xfrm>
          <a:prstGeom prst="rect">
            <a:avLst/>
          </a:prstGeom>
          <a:ln w="0">
            <a:noFill/>
          </a:ln>
        </p:spPr>
      </p:pic>
      <p:sp>
        <p:nvSpPr>
          <p:cNvPr id="50" name="Oval 14"/>
          <p:cNvSpPr/>
          <p:nvPr/>
        </p:nvSpPr>
        <p:spPr>
          <a:xfrm>
            <a:off x="2913120" y="2152800"/>
            <a:ext cx="108000" cy="10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4898880" y="3954600"/>
            <a:ext cx="3773520" cy="869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內建投影功能的觸控式數位相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新細明體"/>
              </a:rPr>
              <a:t>百萬像素，畫質精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94200" y="1817640"/>
            <a:ext cx="361944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7600" y="1978200"/>
            <a:ext cx="2119320" cy="153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9680" y="685800"/>
            <a:ext cx="2457360" cy="354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736040" y="684360"/>
            <a:ext cx="245736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0" y="2428920"/>
            <a:ext cx="4105440" cy="4429080"/>
          </a:xfrm>
          <a:prstGeom prst="rect">
            <a:avLst/>
          </a:prstGeom>
          <a:ln w="0">
            <a:noFill/>
          </a:ln>
        </p:spPr>
      </p:pic>
      <p:pic>
        <p:nvPicPr>
          <p:cNvPr id="57" name="圖片 1" descr=""/>
          <p:cNvPicPr/>
          <p:nvPr/>
        </p:nvPicPr>
        <p:blipFill>
          <a:blip r:embed="rId5"/>
          <a:stretch/>
        </p:blipFill>
        <p:spPr>
          <a:xfrm>
            <a:off x="7651800" y="5892840"/>
            <a:ext cx="61416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圖片 2" descr=""/>
          <p:cNvPicPr/>
          <p:nvPr/>
        </p:nvPicPr>
        <p:blipFill>
          <a:blip r:embed="rId6"/>
          <a:stretch/>
        </p:blipFill>
        <p:spPr>
          <a:xfrm>
            <a:off x="8480520" y="5899320"/>
            <a:ext cx="615960" cy="731520"/>
          </a:xfrm>
          <a:prstGeom prst="rect">
            <a:avLst/>
          </a:prstGeom>
          <a:ln w="0">
            <a:noFill/>
          </a:ln>
        </p:spPr>
      </p:pic>
      <p:pic>
        <p:nvPicPr>
          <p:cNvPr id="59" name="圖片 3" descr=""/>
          <p:cNvPicPr/>
          <p:nvPr/>
        </p:nvPicPr>
        <p:blipFill>
          <a:blip r:embed="rId7"/>
          <a:stretch/>
        </p:blipFill>
        <p:spPr>
          <a:xfrm>
            <a:off x="9352080" y="5899320"/>
            <a:ext cx="615960" cy="73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225440" y="2679840"/>
            <a:ext cx="1706760" cy="324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9"/>
          <p:cNvSpPr/>
          <p:nvPr/>
        </p:nvSpPr>
        <p:spPr>
          <a:xfrm>
            <a:off x="1450800" y="3305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創意</a:t>
            </a:r>
            <a:br>
              <a:rPr sz="1800"/>
            </a:b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手機包膜保護貼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20240" y="837720"/>
            <a:ext cx="2486160" cy="3569760"/>
            <a:chOff x="3720240" y="837720"/>
            <a:chExt cx="2486160" cy="3569760"/>
          </a:xfrm>
        </p:grpSpPr>
        <p:sp>
          <p:nvSpPr>
            <p:cNvPr id="63" name=""/>
            <p:cNvSpPr/>
            <p:nvPr/>
          </p:nvSpPr>
          <p:spPr>
            <a:xfrm rot="900000">
              <a:off x="4110120" y="1003320"/>
              <a:ext cx="1706400" cy="3238560"/>
            </a:xfrm>
            <a:custGeom>
              <a:avLst/>
              <a:gdLst>
                <a:gd name="textAreaLeft" fmla="*/ 60480 w 1706400"/>
                <a:gd name="textAreaRight" fmla="*/ 1645920 w 1706400"/>
                <a:gd name="textAreaTop" fmla="*/ 60480 h 3238560"/>
                <a:gd name="textAreaBottom" fmla="*/ 3178080 h 3238560"/>
              </a:gdLst>
              <a:ahLst/>
              <a:rect l="textAreaLeft" t="textAreaTop" r="textAreaRight" b="textAreaBottom"/>
              <a:pathLst>
                <a:path w="21600" h="40990">
                  <a:moveTo>
                    <a:pt x="2622" y="0"/>
                  </a:moveTo>
                  <a:arcTo wR="2622" hR="2622" stAng="16200000" swAng="-5400000"/>
                  <a:lnTo>
                    <a:pt x="0" y="38368"/>
                  </a:lnTo>
                  <a:arcTo wR="2622" hR="2622" stAng="10800000" swAng="-5400000"/>
                  <a:lnTo>
                    <a:pt x="18978" y="40990"/>
                  </a:lnTo>
                  <a:arcTo wR="2622" hR="2622" stAng="5400000" swAng="-5400000"/>
                  <a:lnTo>
                    <a:pt x="21600" y="2622"/>
                  </a:lnTo>
                  <a:arcTo wR="2622" hR="2622" stAng="0" swAng="-5400000"/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00000">
              <a:off x="4608000" y="1147680"/>
              <a:ext cx="484200" cy="1222560"/>
            </a:xfrm>
            <a:custGeom>
              <a:avLst/>
              <a:gdLst>
                <a:gd name="textAreaLeft" fmla="*/ 32760 w 484200"/>
                <a:gd name="textAreaRight" fmla="*/ 451440 w 484200"/>
                <a:gd name="textAreaTop" fmla="*/ 32760 h 1222560"/>
                <a:gd name="textAreaBottom" fmla="*/ 1189800 h 1222560"/>
              </a:gdLst>
              <a:ahLst/>
              <a:rect l="textAreaLeft" t="textAreaTop" r="textAreaRight" b="textAreaBottom"/>
              <a:pathLst>
                <a:path w="21600" h="54514">
                  <a:moveTo>
                    <a:pt x="5028" y="0"/>
                  </a:moveTo>
                  <a:arcTo wR="5028" hR="5028" stAng="16200000" swAng="-5400000"/>
                  <a:lnTo>
                    <a:pt x="0" y="49486"/>
                  </a:lnTo>
                  <a:arcTo wR="5028" hR="5028" stAng="10800000" swAng="-5400000"/>
                  <a:lnTo>
                    <a:pt x="16572" y="54514"/>
                  </a:lnTo>
                  <a:arcTo wR="5028" hR="5028" stAng="5400000" swAng="-5400000"/>
                  <a:lnTo>
                    <a:pt x="21600" y="5028"/>
                  </a:lnTo>
                  <a:arcTo wR="5028" hR="5028" stAng="0" swAng="-5400000"/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2:44Z</dcterms:created>
  <dc:creator>MAYLIN</dc:creator>
  <dc:description/>
  <dc:language>en-US</dc:language>
  <cp:lastModifiedBy>MAYLIN</cp:lastModifiedBy>
  <dcterms:modified xsi:type="dcterms:W3CDTF">2011-09-03T00:11:54Z</dcterms:modified>
  <cp:revision>23</cp:revision>
  <dc:subject/>
  <dc:title>投影片 1</dc:title>
</cp:coreProperties>
</file>