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97D-6165-4D15-B27A-C0F2CC45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0560" y="39571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425-6FD4-40F0-BA28-C72C4189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3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D89-A0E8-4E3C-8756-9E71BF72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37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569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05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37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569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F95-00FD-4BA9-8351-977F41FC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DB8E-57F9-42E6-B171-803799C6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DD3A-9E3C-4D83-98BC-59828172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BEB7-F8AF-46D5-9479-9F6CBA50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F300-437E-495D-89AB-466CE0DB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3042-AB7A-4B39-99E1-0737C3CE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5938-4A26-4EE5-8DD2-018304CC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8136-3D4C-401B-A9F3-094834AE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195-E189-4194-B704-DE918525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73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6241-A79F-4688-B3B6-0D4E8A52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9C45-02A3-4D68-8374-1501FD1A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50560" y="39571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0600-52AD-4BC7-954E-7C70A80D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73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7C60-F673-493A-B2E9-16162223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37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569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505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037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569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F51F-8CCC-4316-A0AC-F19CEC65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E88-BAC1-4E8D-9624-7EA6D763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29F-B4C2-40FA-AEDD-C9DE4BE6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6A4-BE93-4DA3-9F1D-676ADB92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E7B-7A7E-4CA6-95D4-BCFD0FA9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3E1-0A44-42A4-94AB-C954524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3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46C-8F65-42C5-AABF-CF3DA5F1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5EF-86A9-4AF2-9E84-F0A2ED35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512640" indent="-196920">
              <a:spcBef>
                <a:spcPts val="270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2" marL="788400" indent="-157680">
              <a:spcBef>
                <a:spcPts val="27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3" marL="1104120" indent="-157680">
              <a:spcBef>
                <a:spcPts val="27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4" marL="1419480" indent="-157680">
              <a:spcBef>
                <a:spcPts val="2701"/>
              </a:spcBef>
              <a:buClr>
                <a:srgbClr val="8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5" marL="1419480" indent="-157680">
              <a:spcBef>
                <a:spcPts val="27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6" marL="1419480" indent="-157680">
              <a:spcBef>
                <a:spcPts val="27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0662-EB67-4B9F-AE3C-8185F7987464}" type="slidenum"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294E-16BF-42FB-9218-E6ABFFD5CF2B}" type="slidenum"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2" marL="914400" algn="ctr">
              <a:spcBef>
                <a:spcPts val="1950"/>
              </a:spcBef>
              <a:buClr>
                <a:srgbClr val="8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800000"/>
              </a:solidFill>
              <a:latin typeface="Times New Roman"/>
            </a:endParaRPr>
          </a:p>
          <a:p>
            <a:pPr lvl="3" marL="1371600" algn="ctr">
              <a:spcBef>
                <a:spcPts val="1800"/>
              </a:spcBef>
              <a:buClr>
                <a:srgbClr val="8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4" marL="1828800" algn="ctr">
              <a:spcBef>
                <a:spcPts val="1650"/>
              </a:spcBef>
              <a:buClr>
                <a:srgbClr val="8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  <a:p>
            <a:pPr lvl="5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  <a:p>
            <a:pPr lvl="6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Times New Roman"/>
              </a:rPr>
              <a:t>中國傳統節慶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SF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中 國 傳 統 節 日 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44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春 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元宵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清明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端午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90800" y="1699920"/>
            <a:ext cx="2544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中元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中秋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冬 至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除 夕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Times New Roman"/>
              </a:rPr>
              <a:t>春　節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SF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春　　節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</a:rPr>
              <a:t>爆竹聲中一歲除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</a:rPr>
              <a:t>春節的習俗與傳說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貼春聯 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貼年畫 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放鞭炮、燃焰火 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舞龍 、舞獅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新細明體"/>
              </a:rPr>
              <a:t>元　宵　節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SF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元　宵　節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701"/>
              </a:spcBef>
              <a:buClr>
                <a:srgbClr val="0000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新細明體"/>
              </a:rPr>
              <a:t>東風夜放花千歲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701"/>
              </a:spcBef>
              <a:buClr>
                <a:srgbClr val="0000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新細明體"/>
              </a:rPr>
              <a:t>元宵節的習俗與傳說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新細明體"/>
              </a:rPr>
              <a:t>張燈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新細明體"/>
              </a:rPr>
              <a:t>猜燈謎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新細明體"/>
              </a:rPr>
              <a:t>吃元宵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新細明體"/>
              </a:rPr>
              <a:t>鬧社火 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新細明體"/>
              </a:rPr>
              <a:t>端　午　節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SF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端　午　節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</a:rPr>
              <a:t>龍舟競渡悼中魂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</a:rPr>
              <a:t>端午節的習俗與傳說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賽龍舟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吃粽子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插艾枝、掛昌蒲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飲雄黃酒、佩香包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02:30:45Z</dcterms:created>
  <dc:creator>陳美玲</dc:creator>
  <dc:description/>
  <dc:language>en-US</dc:language>
  <cp:lastModifiedBy>sammi_tsai</cp:lastModifiedBy>
  <dcterms:modified xsi:type="dcterms:W3CDTF">2005-11-08T08:35:22Z</dcterms:modified>
  <cp:revision>18</cp:revision>
  <dc:subject/>
  <dc:title>中國傳統節慶</dc:title>
</cp:coreProperties>
</file>