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C03-4A50-49A1-BFE9-2492F3BA5AD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肉食者的頭骨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頭部上下顎比其他類動物短，這種構造讓咬合更有力，也因此頭顱外形較圓，與狗或熊頭骨口鼻部突出狀截然不同。貓科動物都是純粹的肉食者，牠的消化系統簡單，腸道很短，只適合消化肉類，甚少攝取昆蟲或植物等臉譜，每隻老虎都不一樣：老虎的臉，斑紋鮮豔而複雜，看起來威風異常。額頭的斑紋形似個「王」字，難怪虎皮在華人世界又象徵權勢。由於每隻老虎臉部的斑紋都不相同，就像人類指紋一樣，調查人員可用來辨認不同個體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牙齒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的顎骨短，牙齒數目不多，僅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8-30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顆，但每顆都很銳利，便於切割肉類。其中，老虎的犬齒狀如匕首，是肉食動物中最長的。特別注意犬齒與臼齒間出現的大縫隙，如此在攻擊時，犬齒便能咬得更深，就連臼齒也尖銳鋒利，可切開皮肉。最特殊的是門齒，排成一直線，像一把刮刀，可刮下骨頭表面黏附的殘肉。肉塊到了嘴裡會全數吞下，並不咀嚼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發光夜視眼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和許多夜行的動物例如狼、犬、飛鼠等，眼底網膜後方都多了一層特殊膜層，稱為視毯，能夠將進入的光線反射增強；老虎的夜間視力是人類的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倍，這也是為甚麼黑暗中牠們的眼睛看起來好像會發光一樣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耳朵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對高音波很敏感，同時也是傳訊的工具：聽力絕佳，特別是對高頻率音波，可達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70KHz (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人類可以聽到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0KHz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以下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，兩耳還可隨聲音來源轉向，因此像老鼠發出的細吱叫聲，或鑽動的窸索微響，在牠們聽來是再清楚不過了。隨著心情，耳朵後貼或豎起，許多野生貓科動物耳背有明顯白斑，隨耳朵的轉向而擺動，可以向對手傳達訊息例如“不要過來！”，也可以幫助幼兒在昏暗草叢中辨認媽媽，以便緊緊跟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貓科的專利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：伸縮自如的爪子：貓科動物時常磨爪子，更特別的是每個爪子皆附有一骨質爪鞘，行走或奔跑時爪子縮入鞘裡，避免磨損，所以能永保鋒利。相較之下，熊或犬等動物就沒有爪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保護色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－條紋外表是用來掩護的迷彩裝：黃黑相間的鮮亮外表，當殺手豈不是太突出了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一般貓科動物的典型斑紋是斑點，帶有少許條紋，如花豹，但老虎則是以明顯無比的縱紋為主。其實在光線和陰影交錯的密林裡，老虎身上的彩紋正好與黃昏草叢背景融為一體，且縱走的斑紋可以打破身體的輪廓線，讓獵物不易發覺有一個『虎形狀』的動物靠近牠，是很好的保護色呢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20B-1F0C-4E7A-997B-DDDAB99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09C-F534-4FBA-9339-E578780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947-55D0-4094-99A3-DBDB9581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2B5-22A3-4776-9887-19AE50E1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5ED-A3B0-4C7E-97EF-7B5035CD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849B-6C9A-4A7F-AF99-CEEC15E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C9D-3DE5-4B97-9D72-03001C8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1833-E737-4E7F-AEF0-62EC75DC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FED-A1B6-46A9-9774-6322E60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16C-B30C-4D24-B376-291C21D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5F84-2D8F-4BC2-A91D-1F38CC9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A04-D645-4291-8E55-D9C75AC7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EBF-B088-421B-8A7A-F3B3064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0C6-24B1-47FF-A5EF-724D0D5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9445-DB62-4540-82FA-BEAC2DDD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B67-5ABA-4148-90D2-C5415D5C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9AC-466C-44C6-8F63-78927F73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BBA-DF8D-4ED2-846E-D5C97EC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1CB-9B1C-4716-80DA-52084CB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B75-D893-42DB-B33B-75F3E269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F56-1BB2-4F62-92AD-539FB43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F80-24F4-414A-ABEA-F95C074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A3F-8A54-464D-BE80-52DEE92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174-79F3-4404-98CA-1CD7910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076-FB37-4425-AC12-B680285401B8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C0B-F159-4B48-B1A9-E1F24D86F4A5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PPDCAT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chinese.discovery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/>
          </p:cNvPr>
          <p:cNvSpPr/>
          <p:nvPr/>
        </p:nvSpPr>
        <p:spPr>
          <a:xfrm>
            <a:off x="3684600" y="4371840"/>
            <a:ext cx="237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013440" y="3598920"/>
            <a:ext cx="31813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1052640"/>
            <a:ext cx="6337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進化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evolution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生物隨著時間轉移而變化的理論，主要為物競天擇的結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在進化的後期，也就是生物由海洋移居陸地、平原為綠草覆蓋、而動物進化到以草為生後，出現了一種可怕的動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貓科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feline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屬於貓科的。貓科動物包括獅、虎、美洲豹、及野生和人類飼養的貓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【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貓科殺手的特徵有哪些？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3840" y="5084640"/>
            <a:ext cx="2440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3"/>
          </p:cNvPr>
          <p:cNvSpPr/>
          <p:nvPr/>
        </p:nvSpPr>
        <p:spPr>
          <a:xfrm>
            <a:off x="611280" y="476280"/>
            <a:ext cx="439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06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03:42:26Z</dcterms:created>
  <dc:creator>陳美玲</dc:creator>
  <dc:description/>
  <dc:language>en-US</dc:language>
  <cp:lastModifiedBy>sammi_tsai</cp:lastModifiedBy>
  <dcterms:modified xsi:type="dcterms:W3CDTF">2005-11-11T02:39:36Z</dcterms:modified>
  <cp:revision>16</cp:revision>
  <dc:subject/>
  <dc:title>投影片 1</dc:title>
</cp:coreProperties>
</file>